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778C3-3CA0-4336-B02F-D1F8580C1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6B560-B6BC-4CCB-A4E3-D9A316667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A4E87-1A4E-40A2-B7F5-92A019111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881A7-D7A4-48B3-9A84-7563CAC36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C20DF-2562-4C73-A2E3-79BA8564E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672E2-2276-4F09-97C7-EFB282907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2EB7E-8658-4C3E-AFD7-51AF4955D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51DE0-7707-4B26-8ADA-ED10166AE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F9811-8142-458D-BADC-34B24932D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8783F-0B66-4E66-A982-489485CF6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840B0-530F-4C43-8A31-06A45F79B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03B8A-D7BE-40C5-9DF7-D833AF87F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BC94D-81F7-46F8-8DE1-C90386D95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FBBC0-9EEF-4E25-943A-73066E895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49B25-32F3-4633-BA3C-F68856364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8C38A-7C3A-4E7F-9698-F251B4ABB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D3502-B03C-4929-B96A-660140A55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9DC35-6FD6-47F6-8B58-A9BEE24C8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794F9-9723-4C07-9E2D-19371B599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457AB-7429-4396-9824-458B61590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10464-6366-4355-9C4D-B78D6B79D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5D04A-C8F7-493A-A097-DEB5F1849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1B22C-7519-4002-A617-CB307FC60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A7184-05FD-448A-8C42-D5DB3F04A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AAD03-5768-46FB-BCEF-EBC705EFE21B}" type="slidenum"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D44F0-DC29-499D-BE81-D50CB4E4CD04}" type="slidenum"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tomas.rosa@rb.cz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0066"/>
                </a:solidFill>
                <a:latin typeface="Arial"/>
              </a:rPr>
              <a:t>P</a:t>
            </a: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ic</a:t>
            </a:r>
            <a:r>
              <a:rPr b="1" i="1" lang="en-US" sz="4800" spc="-1" strike="noStrike">
                <a:solidFill>
                  <a:srgbClr val="330066"/>
                </a:solidFill>
                <a:latin typeface="Arial"/>
              </a:rPr>
              <a:t>N</a:t>
            </a: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ic for HF RFID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m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áš Ro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7e9ce8"/>
                </a:solidFill>
                <a:uFillTx/>
                <a:latin typeface="Arial"/>
                <a:hlinkClick r:id="rId1"/>
              </a:rPr>
              <a:t>tomas.rosa@rb.c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rypto.hyperlink.c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68000" y="2565000"/>
            <a:ext cx="845964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500"/>
            </a:br>
            <a:r>
              <a:rPr b="1" i="1" lang="en-US" sz="3500" spc="-1" strike="noStrike">
                <a:solidFill>
                  <a:srgbClr val="330066"/>
                </a:solidFill>
                <a:latin typeface="Arial"/>
              </a:rPr>
              <a:t>P</a:t>
            </a: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ic</a:t>
            </a:r>
            <a:r>
              <a:rPr b="1" i="1" lang="en-US" sz="3500" spc="-1" strike="noStrike">
                <a:solidFill>
                  <a:srgbClr val="330066"/>
                </a:solidFill>
                <a:latin typeface="Arial"/>
              </a:rPr>
              <a:t>N</a:t>
            </a: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ic is coming soon…</a:t>
            </a:r>
            <a:br>
              <a:rPr sz="3500"/>
            </a:br>
            <a:br>
              <a:rPr sz="3500"/>
            </a:br>
            <a:r>
              <a:rPr b="1" lang="cs-CZ" sz="3500" spc="-1" strike="noStrike">
                <a:solidFill>
                  <a:srgbClr val="330066"/>
                </a:solidFill>
                <a:latin typeface="Arial"/>
              </a:rPr>
              <a:t>in </a:t>
            </a: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S</a:t>
            </a:r>
            <a:r>
              <a:rPr b="1" lang="cs-CZ" sz="3500" spc="-1" strike="noStrike">
                <a:solidFill>
                  <a:srgbClr val="330066"/>
                </a:solidFill>
                <a:latin typeface="Arial"/>
              </a:rPr>
              <a:t>dělovací technika, 1/2009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900" spc="-1" strike="noStrike">
                <a:solidFill>
                  <a:srgbClr val="330066"/>
                </a:solidFill>
                <a:latin typeface="Arial"/>
              </a:rPr>
              <a:t>W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ant to play with RFID attack</a:t>
            </a:r>
            <a:r>
              <a:rPr b="1" lang="cs-CZ" sz="3900" spc="-1" strike="noStrike">
                <a:solidFill>
                  <a:srgbClr val="330066"/>
                </a:solidFill>
                <a:latin typeface="Arial"/>
              </a:rPr>
              <a:t>s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ant to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poof MIFARE UID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ain data for MIFARE cryptanalysis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alyze MIFARE-DESFire protocol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ulate the e-Passport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tc. …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mply, want to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ehave as a transponder to the reader or to listen when the reader talks to another RFID chip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K, 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so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ould you like to have a… </a:t>
            </a: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c</a:t>
            </a: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c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?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900" spc="-1" strike="noStrike">
                <a:solidFill>
                  <a:srgbClr val="330066"/>
                </a:solidFill>
                <a:latin typeface="Arial"/>
              </a:rPr>
              <a:t>P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ic</a:t>
            </a:r>
            <a:r>
              <a:rPr b="1" i="1" lang="en-US" sz="3900" spc="-1" strike="noStrike">
                <a:solidFill>
                  <a:srgbClr val="330066"/>
                </a:solidFill>
                <a:latin typeface="Arial"/>
              </a:rPr>
              <a:t>N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ic in a Nutshell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Yet another transponder emulator/spyware for HF RFID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SO 14443A read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SO 14443B and ISO 15693 on demand or DIY (easy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uch that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t does not cost tens of thousands Euro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r does it pose a grand construction challeng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t is just KISS – Keep It Simple, Sweetie – desig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c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c” means “PIC and Nic”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ere “PIC” is a well known microcontroller fami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d “Nic” is a Czech word for “Nothing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”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900" spc="-1" strike="noStrike">
                <a:solidFill>
                  <a:srgbClr val="330066"/>
                </a:solidFill>
                <a:latin typeface="Arial"/>
              </a:rPr>
              <a:t>P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ic</a:t>
            </a:r>
            <a:r>
              <a:rPr b="1" i="1" lang="en-US" sz="3900" spc="-1" strike="noStrike">
                <a:solidFill>
                  <a:srgbClr val="330066"/>
                </a:solidFill>
                <a:latin typeface="Arial"/>
              </a:rPr>
              <a:t>N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ic – The Cookbook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6411" t="27573" r="0" b="0"/>
          <a:stretch/>
        </p:blipFill>
        <p:spPr>
          <a:xfrm>
            <a:off x="430200" y="1773360"/>
            <a:ext cx="8534520" cy="45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900" spc="-1" strike="noStrike">
                <a:solidFill>
                  <a:srgbClr val="330066"/>
                </a:solidFill>
                <a:latin typeface="Arial"/>
              </a:rPr>
              <a:t>P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ic</a:t>
            </a:r>
            <a:r>
              <a:rPr b="1" i="1" lang="en-US" sz="3900" spc="-1" strike="noStrike">
                <a:solidFill>
                  <a:srgbClr val="330066"/>
                </a:solidFill>
                <a:latin typeface="Arial"/>
              </a:rPr>
              <a:t>N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ic Ready to Serv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1630440" y="1719360"/>
            <a:ext cx="5881680" cy="441144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179280" y="6308640"/>
            <a:ext cx="878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rototype was built on a non-soldering demo board 8.5 x 5.5 cm (3.35 x 2.17 in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900" spc="-1" strike="noStrike">
                <a:solidFill>
                  <a:srgbClr val="330066"/>
                </a:solidFill>
                <a:latin typeface="Arial"/>
              </a:rPr>
              <a:t>P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ic</a:t>
            </a:r>
            <a:r>
              <a:rPr b="1" i="1" lang="en-US" sz="3900" spc="-1" strike="noStrike">
                <a:solidFill>
                  <a:srgbClr val="330066"/>
                </a:solidFill>
                <a:latin typeface="Arial"/>
              </a:rPr>
              <a:t>N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ic in </a:t>
            </a:r>
            <a:r>
              <a:rPr b="1" lang="cs-CZ" sz="3900" spc="-1" strike="noStrike">
                <a:solidFill>
                  <a:srgbClr val="330066"/>
                </a:solidFill>
                <a:latin typeface="Arial"/>
              </a:rPr>
              <a:t>RX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Action - WUP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971640" y="1484280"/>
            <a:ext cx="669600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900" spc="-1" strike="noStrike">
                <a:solidFill>
                  <a:srgbClr val="330066"/>
                </a:solidFill>
                <a:latin typeface="Arial"/>
              </a:rPr>
              <a:t>P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ic</a:t>
            </a:r>
            <a:r>
              <a:rPr b="1" i="1" lang="en-US" sz="3900" spc="-1" strike="noStrike">
                <a:solidFill>
                  <a:srgbClr val="330066"/>
                </a:solidFill>
                <a:latin typeface="Arial"/>
              </a:rPr>
              <a:t>N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ic in </a:t>
            </a:r>
            <a:r>
              <a:rPr b="1" lang="cs-CZ" sz="3900" spc="-1" strike="noStrike">
                <a:solidFill>
                  <a:srgbClr val="330066"/>
                </a:solidFill>
                <a:latin typeface="Arial"/>
              </a:rPr>
              <a:t>TX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Action - ATQ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971640" y="1482840"/>
            <a:ext cx="6765840" cy="50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One Example for All</a:t>
            </a:r>
            <a:br>
              <a:rPr sz="3900"/>
            </a:br>
            <a:r>
              <a:rPr b="1" i="1" lang="en-US" sz="3900" spc="-1" strike="noStrike">
                <a:solidFill>
                  <a:srgbClr val="330066"/>
                </a:solidFill>
                <a:latin typeface="Arial"/>
              </a:rPr>
              <a:t>P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ic</a:t>
            </a:r>
            <a:r>
              <a:rPr b="1" i="1" lang="en-US" sz="3900" spc="-1" strike="noStrike">
                <a:solidFill>
                  <a:srgbClr val="330066"/>
                </a:solidFill>
                <a:latin typeface="Arial"/>
              </a:rPr>
              <a:t>N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ic for a Real Picnic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284720" y="1719360"/>
            <a:ext cx="4535280" cy="48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 a canteen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ere the UID is printed on the bill directly (together with reader’s status code </a:t>
            </a:r>
            <a:r>
              <a:rPr b="0" lang="en-US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ake some bill from a waste bask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gram the PicNi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nd enjoy your meal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826920" y="1413000"/>
            <a:ext cx="3164040" cy="54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1T20:13:16Z</dcterms:created>
  <dc:creator>Tomáš Rosa, Ph.D.</dc:creator>
  <dc:description/>
  <dc:language>en-US</dc:language>
  <cp:lastModifiedBy>Tomáš Rosa</cp:lastModifiedBy>
  <dcterms:modified xsi:type="dcterms:W3CDTF">2008-12-11T08:46:54Z</dcterms:modified>
  <cp:revision>22</cp:revision>
  <dc:subject>Santa's crypto get together 2008</dc:subject>
  <dc:title>PicNic for HF RFID</dc:title>
</cp:coreProperties>
</file>