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8.png" ContentType="image/png"/>
  <Override PartName="/ppt/media/image6.wmf" ContentType="image/x-wmf"/>
  <Override PartName="/ppt/media/image13.jpeg" ContentType="image/jpeg"/>
  <Override PartName="/ppt/media/image12.jpeg" ContentType="image/jpeg"/>
  <Override PartName="/ppt/media/camera.wav" ContentType="audio/x-wav"/>
  <Override PartName="/ppt/media/voltage.wav" ContentType="audio/x-wav"/>
  <Override PartName="/ppt/media/image7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image5.jpeg" ContentType="image/jpeg"/>
  <Override PartName="/ppt/media/image9.wmf" ContentType="image/x-wmf"/>
  <Override PartName="/ppt/media/image11.gif" ContentType="image/gif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96CC-32FD-4611-9E82-75BAB5C2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D06-ABC6-40C0-B861-485E334A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2216-50DF-4ED5-B37F-CDAE29274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D92-9DC9-4D99-BA3A-AF16EE0A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4CD1-F576-4A74-8406-1EF21376F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484CC-FD86-4BAF-9CAA-F67ABDA5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78E2-64EF-41FA-BB68-B7A130FD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B9EA-46AE-4E6B-B3CC-D9A6D3AB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8847-205E-42C6-B8A6-152D06A4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2629-142C-417D-877A-92E0F39A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CD69-40BA-48B7-A73D-6CAD3767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EF0-A25E-4E85-A98E-A5724AAF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62EC-FB38-4D0E-A245-1061BA86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9A77-54CC-467B-8F80-963462B1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3BAC-12FF-428C-B05D-FB759FEE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5402-3E2C-47EA-93EA-20D46402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08B0-0339-4572-B21D-607B2815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A2FF-814E-4B1B-88D2-4902819A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C660-F72A-4341-A1DB-7A67D839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1F4-1FD2-4A07-A5BA-BAB6A8D10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A9E-5664-4EFD-B5DE-D3BFF5DE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97F5-F6AD-47CA-8EC1-CBCC072F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F8BE-81FC-43BD-97BA-B509152C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26A-2986-43B5-ABD8-3BA16F7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5011-E121-4F9E-B595-0FE3F619A3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5894-2F67-495E-B24B-5684F84A19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audio" Target="../media/voltage.wav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6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audio" Target="../media/voltage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0033"/>
                </a:solidFill>
                <a:latin typeface="Times New Roman"/>
              </a:rPr>
              <a:t>Moderní kryptoanalytické metody – poznámky z výzkumu &amp; praxe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omáš Rosa, </a:t>
            </a:r>
            <a:r>
              <a:rPr b="1" lang="cs-CZ" sz="2800" spc="-1" strike="noStrike">
                <a:solidFill>
                  <a:srgbClr val="000000"/>
                </a:solidFill>
                <a:latin typeface="Courier New"/>
              </a:rPr>
              <a:t>xrosa@fel.cvut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tedra počítačů, FEL, ČVUT v Pr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dpisová schémata</a:t>
            </a:r>
            <a:br>
              <a:rPr sz="50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elementární principy- (1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kážeme si konstrukci podpisového schématu typu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héma se opírá o použití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jednosměrné funkce s padacími vrát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ody založené na čistě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jednosměrných funkcí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jsou poněkud odlišné (DSA, ECDS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dpisová schémata</a:t>
            </a:r>
            <a:br>
              <a:rPr sz="50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elementární principy- (2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3141720"/>
            <a:ext cx="2016000" cy="1079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3213000"/>
            <a:ext cx="2016000" cy="107964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979640" y="3429000"/>
            <a:ext cx="311400" cy="398880"/>
            <a:chOff x="1979640" y="3429000"/>
            <a:chExt cx="311400" cy="398880"/>
          </a:xfrm>
        </p:grpSpPr>
        <p:sp>
          <p:nvSpPr>
            <p:cNvPr id="169" name=""/>
            <p:cNvSpPr/>
            <p:nvPr/>
          </p:nvSpPr>
          <p:spPr>
            <a:xfrm>
              <a:off x="1979640" y="3430440"/>
              <a:ext cx="145800" cy="142920"/>
            </a:xfrm>
            <a:prstGeom prst="ellipse">
              <a:avLst/>
            </a:prstGeom>
            <a:solidFill>
              <a:srgbClr val="cc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9821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0033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5651640" y="3789360"/>
            <a:ext cx="296640" cy="398880"/>
            <a:chOff x="5651640" y="3789360"/>
            <a:chExt cx="296640" cy="398880"/>
          </a:xfrm>
        </p:grpSpPr>
        <p:sp>
          <p:nvSpPr>
            <p:cNvPr id="172" name=""/>
            <p:cNvSpPr/>
            <p:nvPr/>
          </p:nvSpPr>
          <p:spPr>
            <a:xfrm>
              <a:off x="5651640" y="3790800"/>
              <a:ext cx="145800" cy="142920"/>
            </a:xfrm>
            <a:prstGeom prst="ellipse">
              <a:avLst/>
            </a:prstGeom>
            <a:solidFill>
              <a:srgbClr val="cc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54880" y="3789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0033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4452840" y="4149720"/>
            <a:ext cx="541440" cy="511920"/>
            <a:chOff x="4452840" y="4149720"/>
            <a:chExt cx="541440" cy="511920"/>
          </a:xfrm>
        </p:grpSpPr>
        <p:sp>
          <p:nvSpPr>
            <p:cNvPr id="175" name=""/>
            <p:cNvSpPr/>
            <p:nvPr/>
          </p:nvSpPr>
          <p:spPr>
            <a:xfrm>
              <a:off x="4452840" y="4149720"/>
              <a:ext cx="503280" cy="5029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554360" y="422100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3570480" y="5157720"/>
            <a:ext cx="2318760" cy="459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rivátní klíč:</a:t>
            </a:r>
            <a:r>
              <a:rPr b="1" lang="en-US" sz="2400" spc="-1" strike="noStrike">
                <a:solidFill>
                  <a:srgbClr val="330033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3" idx="1"/>
            <a:endCxn id="175" idx="7"/>
          </p:cNvCxnSpPr>
          <p:nvPr/>
        </p:nvCxnSpPr>
        <p:spPr>
          <a:xfrm flipV="1" rot="10800000">
            <a:off x="4882320" y="3986640"/>
            <a:ext cx="770760" cy="23580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79" name=""/>
          <p:cNvCxnSpPr>
            <a:stCxn id="175" idx="2"/>
            <a:endCxn id="170" idx="3"/>
          </p:cNvCxnSpPr>
          <p:nvPr/>
        </p:nvCxnSpPr>
        <p:spPr>
          <a:xfrm rot="10800000">
            <a:off x="2291760" y="3626640"/>
            <a:ext cx="2161080" cy="775440"/>
          </a:xfrm>
          <a:prstGeom prst="curvedConnector5">
            <a:avLst>
              <a:gd name="adj1" fmla="val 49950"/>
              <a:gd name="adj2" fmla="val 49976"/>
              <a:gd name="adj3" fmla="val 49950"/>
            </a:avLst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80" name=""/>
          <p:cNvSpPr/>
          <p:nvPr/>
        </p:nvSpPr>
        <p:spPr>
          <a:xfrm flipV="1">
            <a:off x="4714920" y="4653000"/>
            <a:ext cx="0" cy="504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3440" y="40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50160" y="4005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24000" y="353844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32000" y="371628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76360" y="357336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47640" y="3789360"/>
            <a:ext cx="7020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371628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92360" y="393372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124000" y="393372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335772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835280" y="378936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3860640"/>
            <a:ext cx="7020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2483640" y="393372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627280" y="342900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350028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08760" y="3787920"/>
            <a:ext cx="75960" cy="727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27640" y="357336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00720" y="386064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4149720"/>
            <a:ext cx="7596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342900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407664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3573360"/>
            <a:ext cx="7596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77080" y="386064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64000" y="371628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68080" y="2436840"/>
            <a:ext cx="3812400" cy="459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Verdana"/>
              </a:rPr>
              <a:t>podepisovaná zpráva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364000" y="2421000"/>
            <a:ext cx="503280" cy="502920"/>
            <a:chOff x="5364000" y="2421000"/>
            <a:chExt cx="503280" cy="502920"/>
          </a:xfrm>
        </p:grpSpPr>
        <p:sp>
          <p:nvSpPr>
            <p:cNvPr id="207" name=""/>
            <p:cNvSpPr/>
            <p:nvPr/>
          </p:nvSpPr>
          <p:spPr>
            <a:xfrm>
              <a:off x="5364000" y="2421000"/>
              <a:ext cx="503280" cy="5029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454000" y="2492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09" name=""/>
          <p:cNvCxnSpPr>
            <a:stCxn id="205" idx="3"/>
            <a:endCxn id="207" idx="2"/>
          </p:cNvCxnSpPr>
          <p:nvPr/>
        </p:nvCxnSpPr>
        <p:spPr>
          <a:xfrm flipV="1">
            <a:off x="4638240" y="2673000"/>
            <a:ext cx="726120" cy="7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10" name=""/>
          <p:cNvCxnSpPr>
            <a:stCxn id="207" idx="4"/>
            <a:endCxn id="172" idx="7"/>
          </p:cNvCxnSpPr>
          <p:nvPr/>
        </p:nvCxnSpPr>
        <p:spPr>
          <a:xfrm flipH="1" rot="16200000">
            <a:off x="5252040" y="3287520"/>
            <a:ext cx="888120" cy="160920"/>
          </a:xfrm>
          <a:prstGeom prst="curvedConnector5">
            <a:avLst>
              <a:gd name="adj1" fmla="val 48824"/>
              <a:gd name="adj2" fmla="val 50000"/>
              <a:gd name="adj3" fmla="val 48824"/>
            </a:avLst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11" name=""/>
          <p:cNvSpPr/>
          <p:nvPr/>
        </p:nvSpPr>
        <p:spPr>
          <a:xfrm>
            <a:off x="6300720" y="2162160"/>
            <a:ext cx="2843280" cy="61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92" y="19052"/>
                </a:moveTo>
                <a:lnTo>
                  <a:pt x="-579" y="3988"/>
                </a:lnTo>
              </a:path>
              <a:path w="21600" h="21600">
                <a:moveTo>
                  <a:pt x="-579" y="0"/>
                </a:moveTo>
                <a:lnTo>
                  <a:pt x="-579" y="2160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Verdana"/>
              </a:rPr>
              <a:t>hašovací funkce </a:t>
            </a:r>
            <a:r>
              <a:rPr b="1" i="1" lang="en-US" sz="2000" spc="-1" strike="noStrike">
                <a:solidFill>
                  <a:srgbClr val="330033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1880" y="5950080"/>
            <a:ext cx="5864040" cy="5101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Verdana"/>
              </a:rPr>
              <a:t>digitální podpis zpráv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330033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x =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/>
          <p:nvPr/>
        </p:nvCxnSpPr>
        <p:spPr>
          <a:xfrm flipH="1">
            <a:off x="1979280" y="3645000"/>
            <a:ext cx="2160" cy="22500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14" name=""/>
          <p:cNvCxnSpPr/>
          <p:nvPr/>
        </p:nvCxnSpPr>
        <p:spPr>
          <a:xfrm flipH="1" rot="16200000">
            <a:off x="5400000" y="3175920"/>
            <a:ext cx="2953440" cy="2449800"/>
          </a:xfrm>
          <a:prstGeom prst="curvedConnector5">
            <a:avLst>
              <a:gd name="adj1" fmla="val 49993"/>
              <a:gd name="adj2" fmla="val 50000"/>
              <a:gd name="adj3" fmla="val 49993"/>
            </a:avLst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dpisová schémata</a:t>
            </a:r>
            <a:br>
              <a:rPr sz="50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elementární principy- (3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44720" y="4473720"/>
            <a:ext cx="2016000" cy="1079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84720" y="4437000"/>
            <a:ext cx="2016000" cy="1079640"/>
          </a:xfrm>
          <a:prstGeom prst="ellipse">
            <a:avLst/>
          </a:prstGeom>
          <a:solidFill>
            <a:srgbClr val="ffffe1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052720" y="4761000"/>
            <a:ext cx="311040" cy="398880"/>
            <a:chOff x="2052720" y="4761000"/>
            <a:chExt cx="311040" cy="398880"/>
          </a:xfrm>
        </p:grpSpPr>
        <p:sp>
          <p:nvSpPr>
            <p:cNvPr id="219" name=""/>
            <p:cNvSpPr/>
            <p:nvPr/>
          </p:nvSpPr>
          <p:spPr>
            <a:xfrm>
              <a:off x="2052720" y="4762440"/>
              <a:ext cx="145440" cy="142920"/>
            </a:xfrm>
            <a:prstGeom prst="ellipse">
              <a:avLst/>
            </a:prstGeom>
            <a:solidFill>
              <a:srgbClr val="cc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054880" y="4761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0033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788000" y="5013360"/>
            <a:ext cx="296640" cy="398880"/>
            <a:chOff x="4788000" y="5013360"/>
            <a:chExt cx="296640" cy="398880"/>
          </a:xfrm>
        </p:grpSpPr>
        <p:sp>
          <p:nvSpPr>
            <p:cNvPr id="222" name=""/>
            <p:cNvSpPr/>
            <p:nvPr/>
          </p:nvSpPr>
          <p:spPr>
            <a:xfrm>
              <a:off x="4788000" y="5014800"/>
              <a:ext cx="145800" cy="142920"/>
            </a:xfrm>
            <a:prstGeom prst="ellipse">
              <a:avLst/>
            </a:prstGeom>
            <a:solidFill>
              <a:srgbClr val="cc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91240" y="5013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0033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276720" y="4184640"/>
            <a:ext cx="503280" cy="511920"/>
            <a:chOff x="3276720" y="4184640"/>
            <a:chExt cx="503280" cy="511920"/>
          </a:xfrm>
        </p:grpSpPr>
        <p:sp>
          <p:nvSpPr>
            <p:cNvPr id="225" name=""/>
            <p:cNvSpPr/>
            <p:nvPr/>
          </p:nvSpPr>
          <p:spPr>
            <a:xfrm>
              <a:off x="3276720" y="4184640"/>
              <a:ext cx="503280" cy="5029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71040" y="4255920"/>
              <a:ext cx="316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"/>
          <p:cNvCxnSpPr>
            <a:stCxn id="220" idx="0"/>
            <a:endCxn id="225" idx="2"/>
          </p:cNvCxnSpPr>
          <p:nvPr/>
        </p:nvCxnSpPr>
        <p:spPr>
          <a:xfrm flipH="1" flipV="1" rot="5400000">
            <a:off x="2580840" y="4065120"/>
            <a:ext cx="324720" cy="106776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28" name=""/>
          <p:cNvCxnSpPr>
            <a:stCxn id="225" idx="6"/>
            <a:endCxn id="222" idx="1"/>
          </p:cNvCxnSpPr>
          <p:nvPr/>
        </p:nvCxnSpPr>
        <p:spPr>
          <a:xfrm>
            <a:off x="3779640" y="4436640"/>
            <a:ext cx="1028880" cy="59940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29" name=""/>
          <p:cNvSpPr/>
          <p:nvPr/>
        </p:nvSpPr>
        <p:spPr>
          <a:xfrm>
            <a:off x="1046520" y="5408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86520" y="5229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97080" y="487044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5080" y="504828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49440" y="490536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20720" y="512136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65440" y="504828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65440" y="526572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97080" y="526572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65440" y="468936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8000" y="5121360"/>
            <a:ext cx="7020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60360" y="519264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556720" y="526572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360" y="476100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472428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45120" y="501156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64000" y="479736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437080" y="508464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5373720"/>
            <a:ext cx="7596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080" y="465300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80000" y="530064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796000" y="479736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013440" y="508464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500720" y="4940280"/>
            <a:ext cx="7596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8080" y="2436840"/>
            <a:ext cx="3812400" cy="459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Verdana"/>
              </a:rPr>
              <a:t>podepisovaná zpráva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364000" y="2421000"/>
            <a:ext cx="503280" cy="502920"/>
            <a:chOff x="5364000" y="2421000"/>
            <a:chExt cx="503280" cy="502920"/>
          </a:xfrm>
        </p:grpSpPr>
        <p:sp>
          <p:nvSpPr>
            <p:cNvPr id="255" name=""/>
            <p:cNvSpPr/>
            <p:nvPr/>
          </p:nvSpPr>
          <p:spPr>
            <a:xfrm>
              <a:off x="5364000" y="2421000"/>
              <a:ext cx="503280" cy="5029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54000" y="2492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53" idx="3"/>
            <a:endCxn id="255" idx="2"/>
          </p:cNvCxnSpPr>
          <p:nvPr/>
        </p:nvCxnSpPr>
        <p:spPr>
          <a:xfrm flipV="1">
            <a:off x="4638240" y="2673000"/>
            <a:ext cx="726120" cy="7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58" name=""/>
          <p:cNvSpPr/>
          <p:nvPr/>
        </p:nvSpPr>
        <p:spPr>
          <a:xfrm>
            <a:off x="6300720" y="2162160"/>
            <a:ext cx="2843280" cy="619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292" y="19052"/>
                </a:moveTo>
                <a:lnTo>
                  <a:pt x="-579" y="3988"/>
                </a:lnTo>
              </a:path>
              <a:path w="21600" h="21600">
                <a:moveTo>
                  <a:pt x="-579" y="0"/>
                </a:moveTo>
                <a:lnTo>
                  <a:pt x="-579" y="2160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Verdana"/>
              </a:rPr>
              <a:t>hašovací funkce </a:t>
            </a:r>
            <a:r>
              <a:rPr b="1" i="1" lang="en-US" sz="2000" spc="-1" strike="noStrike">
                <a:solidFill>
                  <a:srgbClr val="330033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 = 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h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7560" y="3357720"/>
            <a:ext cx="3297240" cy="5101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Verdana"/>
              </a:rPr>
              <a:t>ověřovaný podpis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9" idx="2"/>
            <a:endCxn id="219" idx="1"/>
          </p:cNvCxnSpPr>
          <p:nvPr/>
        </p:nvCxnSpPr>
        <p:spPr>
          <a:xfrm rot="5400000">
            <a:off x="1671840" y="4258440"/>
            <a:ext cx="925920" cy="124560"/>
          </a:xfrm>
          <a:prstGeom prst="curvedConnector5">
            <a:avLst>
              <a:gd name="adj1" fmla="val 47996"/>
              <a:gd name="adj2" fmla="val 49855"/>
              <a:gd name="adj3" fmla="val 47996"/>
            </a:avLst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61" name=""/>
          <p:cNvSpPr/>
          <p:nvPr/>
        </p:nvSpPr>
        <p:spPr>
          <a:xfrm>
            <a:off x="2163240" y="5877000"/>
            <a:ext cx="6414840" cy="5101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0033"/>
                </a:solidFill>
                <a:latin typeface="Verdana"/>
              </a:rPr>
              <a:t>podpis platí právě tehdy, když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0033"/>
                </a:solidFill>
                <a:latin typeface="Times New Roman"/>
              </a:rPr>
              <a:t>f</a:t>
            </a:r>
            <a:r>
              <a:rPr b="1" i="1" lang="en-US" sz="2400" spc="-1" strike="noStrike" baseline="-25000">
                <a:solidFill>
                  <a:srgbClr val="330033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0033"/>
                </a:solidFill>
                <a:latin typeface="Times New Roman"/>
              </a:rPr>
              <a:t>s</a:t>
            </a:r>
            <a:r>
              <a:rPr b="1" i="1" lang="en-US" sz="2400" spc="-1" strike="noStrike" baseline="-25000">
                <a:solidFill>
                  <a:srgbClr val="330033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 = </a:t>
            </a:r>
            <a:r>
              <a:rPr b="1" i="1" lang="en-US" sz="2400" spc="-1" strike="noStrike">
                <a:solidFill>
                  <a:srgbClr val="330033"/>
                </a:solidFill>
                <a:latin typeface="Times New Roman"/>
              </a:rPr>
              <a:t>h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330033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2" name=""/>
          <p:cNvCxnSpPr>
            <a:stCxn id="223" idx="0"/>
          </p:cNvCxnSpPr>
          <p:nvPr/>
        </p:nvCxnSpPr>
        <p:spPr>
          <a:xfrm flipH="1" rot="16200000">
            <a:off x="4611600" y="5339160"/>
            <a:ext cx="864360" cy="210240"/>
          </a:xfrm>
          <a:prstGeom prst="curvedConnector5">
            <a:avLst>
              <a:gd name="adj1" fmla="val -26458"/>
              <a:gd name="adj2" fmla="val 49914"/>
              <a:gd name="adj3" fmla="val -26458"/>
            </a:avLst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Asymetrická schémata</a:t>
            </a:r>
            <a:br>
              <a:rPr sz="4200"/>
            </a:br>
            <a:r>
              <a:rPr b="0" lang="cs-CZ" sz="2900" spc="-1" strike="noStrike">
                <a:solidFill>
                  <a:srgbClr val="330033"/>
                </a:solidFill>
                <a:latin typeface="Times New Roman"/>
              </a:rPr>
              <a:t>-inicializace instance-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11280" y="3789360"/>
            <a:ext cx="338472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ýchozí tajná in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E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522600" y="1916280"/>
            <a:ext cx="1160640" cy="13683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584680" y="2019240"/>
            <a:ext cx="2803680" cy="104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690" y="18626"/>
                </a:moveTo>
                <a:lnTo>
                  <a:pt x="-587" y="2353"/>
                </a:lnTo>
              </a:path>
              <a:path w="21600" h="21600">
                <a:moveTo>
                  <a:pt x="-587" y="0"/>
                </a:moveTo>
                <a:lnTo>
                  <a:pt x="-587" y="21600"/>
                </a:ln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Verdana"/>
              </a:rPr>
              <a:t>RNG: získání inicializační in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5" idx="2"/>
            <a:endCxn id="264" idx="0"/>
          </p:cNvCxnSpPr>
          <p:nvPr/>
        </p:nvCxnSpPr>
        <p:spPr>
          <a:xfrm>
            <a:off x="4103280" y="3284640"/>
            <a:ext cx="1080" cy="49104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68" name=""/>
          <p:cNvSpPr/>
          <p:nvPr/>
        </p:nvSpPr>
        <p:spPr>
          <a:xfrm>
            <a:off x="395280" y="4653000"/>
            <a:ext cx="3384720" cy="576360"/>
          </a:xfrm>
          <a:prstGeom prst="rect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eřejný kl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ubK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27640" y="4653000"/>
            <a:ext cx="3384360" cy="576360"/>
          </a:xfrm>
          <a:prstGeom prst="rect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ivátní kl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ivKe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64" idx="1"/>
            <a:endCxn id="268" idx="0"/>
          </p:cNvCxnSpPr>
          <p:nvPr/>
        </p:nvCxnSpPr>
        <p:spPr>
          <a:xfrm flipV="1" rot="10800000">
            <a:off x="2086920" y="4078080"/>
            <a:ext cx="310320" cy="5608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271" name=""/>
          <p:cNvCxnSpPr>
            <a:stCxn id="264" idx="3"/>
            <a:endCxn id="269" idx="0"/>
          </p:cNvCxnSpPr>
          <p:nvPr/>
        </p:nvCxnSpPr>
        <p:spPr>
          <a:xfrm>
            <a:off x="5810040" y="4078440"/>
            <a:ext cx="309960" cy="5608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272" name=""/>
          <p:cNvSpPr/>
          <p:nvPr/>
        </p:nvSpPr>
        <p:spPr>
          <a:xfrm>
            <a:off x="2050920" y="5229360"/>
            <a:ext cx="0" cy="64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84720" y="5229360"/>
            <a:ext cx="0" cy="64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15560" y="5877000"/>
            <a:ext cx="18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Verdana"/>
              </a:rPr>
              <a:t>...certifiká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80680" y="587700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Verdana"/>
              </a:rPr>
              <a:t>...čipová karta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chéma vs. transforma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35080" y="1989000"/>
            <a:ext cx="8675640" cy="427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S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cializace schém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ygenerujme nezávisle dvě velká (zhruba stejně) prvočís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čtě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cm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volme náhodné čísl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1 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gc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ěkdy se volí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vně (zejmén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3, 655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čtě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lňující: 1 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(mo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žijeme rozšířený Eukleidův algoritm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řejným klíčem budiž dvojic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zýváme modul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eřejný exponent 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átním klíčem budiž dvojic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azýváme privátní exponent 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 bezpečnost je nutné ošetřit integritu dvojic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S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55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ifrovací transformace: RSAEP(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stup: veřejný klíč RSA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zformátovaná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zpráva pro šifrová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0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SAEP(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cs-CZ" sz="2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ěřovací transformace: RSAVP(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stup: veřejný klíč RSA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, ověřovaný podpis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                0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SAVP(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 = RSAEP(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S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3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2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0160" indent="-3801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šifrovací transformace: RSADP(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stup: privátní klíč RSA (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, šifrový text pro odšifrování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0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05520" indent="-3740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RSADP((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500" spc="-1" strike="noStrike" baseline="30000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0160" indent="-38016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episovací transformace: RSASP((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stup: privátní klíč RSA (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zformátovaná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zpráva pro podpis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, 0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3740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05520" indent="-374040">
              <a:lnSpc>
                <a:spcPct val="90000"/>
              </a:lnSpc>
              <a:spcBef>
                <a:spcPts val="6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RSASP((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) = RSADP((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5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S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4)</a:t>
            </a:r>
            <a:br>
              <a:rPr sz="42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s využitím CRT-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53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icializace schéma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generujme nezávisle dvě velká (zhruba stejně) prvočísla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čtěm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q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lcm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1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olme náhodné číslo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1 &lt;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gcd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kdy se vol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pevně (zejmén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= 3, 655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čtěm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1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 (m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1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 (mod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1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čtěm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: 0 &lt;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 (mod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ým klíčem budiž dvojice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zýváme modul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eřejný exponent 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ivátním klíčem budiž pětice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bezpečnost je nutné ošetřit integritu celé pě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S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5)</a:t>
            </a:r>
            <a:br>
              <a:rPr sz="42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s využitím CRT-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83908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šifrovací transformace: RSADP(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8080" indent="-5335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stup: privátní klíč RSA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q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, šifrový text pro odšifrování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0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q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08080" indent="-53352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ýpoče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575"/>
              </a:spcBef>
              <a:buClr>
                <a:srgbClr val="b2b2b2"/>
              </a:buClr>
              <a:buSzPct val="5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300" spc="-1" strike="noStrike" baseline="30000">
                <a:solidFill>
                  <a:srgbClr val="000000"/>
                </a:solidFill>
                <a:latin typeface="Arial"/>
              </a:rPr>
              <a:t>dp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575"/>
              </a:spcBef>
              <a:buClr>
                <a:srgbClr val="b2b2b2"/>
              </a:buClr>
              <a:buSzPct val="5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300" spc="-1" strike="noStrike" baseline="30000">
                <a:solidFill>
                  <a:srgbClr val="000000"/>
                </a:solidFill>
                <a:latin typeface="Arial"/>
              </a:rPr>
              <a:t>dq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575"/>
              </a:spcBef>
              <a:buClr>
                <a:srgbClr val="b2b2b2"/>
              </a:buClr>
              <a:buSzPct val="5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575"/>
              </a:spcBef>
              <a:buClr>
                <a:srgbClr val="b2b2b2"/>
              </a:buClr>
              <a:buSzPct val="5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hq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spcBef>
                <a:spcPts val="575"/>
              </a:spcBef>
              <a:buClr>
                <a:srgbClr val="b2b2b2"/>
              </a:buClr>
              <a:buSzPct val="5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ýsledek budiž hodnota </a:t>
            </a:r>
            <a:r>
              <a:rPr b="0" i="1" lang="cs-CZ" sz="2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S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6)</a:t>
            </a:r>
            <a:br>
              <a:rPr sz="42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s využitím CRT-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50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ůvod použití: rychl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ahuje se průměrně zhruba 4násobného zrychlení odšifrovací (podepisovací) transform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né zejména pro čipové k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lší zrychlování: využití více než dvou prvočísel pro konstrukci modul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-prime RSA (patentováno, patent plat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S Patent #5,848,159, Jan. 1997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ymptoticky lze koeficient zrychlování oproti dvoufaktorovému RSA (s využitím CRT) odhadnout jako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4, k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počet prvočíselných faktorů v modul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zvětšování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třeba hlídat možnosti útoků založených na použití nízkých fak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SA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7)</a:t>
            </a:r>
            <a:br>
              <a:rPr sz="46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základní vlastnosti-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88160" cy="42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likativní vlastnost (homomorfismus)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 všechn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lat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SADP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= RSADP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 * RSADP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 mod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RSAEP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= RSAEP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 * RSAEP(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 mod </a:t>
            </a: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vrzení o individuálních bitech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hruba napsáno: schopnost invertovat RSAEP pro individuální bity znamená schopnost invertovat RSAEP zce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blém faktoriza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15328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ecný pří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ějme dáno celé číslo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cílem je nalézt jeho zápis ve tvaru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cs-CZ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cs-CZ" sz="2200" spc="-1" strike="noStrike" baseline="30000">
                <a:solidFill>
                  <a:srgbClr val="000000"/>
                </a:solidFill>
                <a:latin typeface="Arial"/>
              </a:rPr>
              <a:t>e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kde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je prvočíslo a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je celé čís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pad RSA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de nazývám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modu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eciální případ,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= 2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plitting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ulti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ime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 RSA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&gt; 2, avšak obvykle je známo, kolik faktorů modul obsahuj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etoda N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TWINKLE, TWIRL (teoretic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vantové počítače (teoretic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156360" y="4940280"/>
            <a:ext cx="73080" cy="1197000"/>
          </a:xfrm>
          <a:custGeom>
            <a:avLst/>
            <a:gdLst>
              <a:gd name="textAreaLeft" fmla="*/ 0 w 73080"/>
              <a:gd name="textAreaRight" fmla="*/ 26280 w 7308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43640" y="48690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Verdana"/>
              </a:rPr>
              <a:t>Metody typu </a:t>
            </a:r>
            <a:r>
              <a:rPr b="1" i="1" lang="en-US" sz="2400" spc="-1" strike="noStrike">
                <a:solidFill>
                  <a:srgbClr val="330033"/>
                </a:solidFill>
                <a:latin typeface="Verdana"/>
              </a:rPr>
              <a:t>random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blém RS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15328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72240" indent="-3722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praktické účely definován na okruhu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velké celé složené čís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íl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 daná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splňující gcd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) = 1, kde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Eulerova funkce, nalézt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akové, a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cs-CZ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mod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ud nebylo prokázáno, že by tato úloha byla ekvivalentní úloze faktorizace modul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2240" indent="-37224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Jiná úloha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o výše zadané hodnoty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alézt celé číslo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takové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d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 (mod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to úloh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avděpodobnostně) ekvivalentní úloze faktorizac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3760" indent="-36648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to nesprávně považována za samotný problém RSA, ekvivalence zde ovše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byl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osud dokáz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íl útok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utno zvláště precizně specifik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Často (zvláště u špatně navržených systémů) totiž postač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yluštit 1 (několik málo) zachycených šifrových tex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depsat 1 (několik málo) z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ísto toho se však obvykle teoreticky prokazuje neschůdn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tálního prolom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uštění libovolných náhodně volených šifrových text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dpis libovolných náhodně volených z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dvození privátního klíče z klíče veřejnéh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schůdnost úloh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ostačujíc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k totálnímu prolom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středí útok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utno zvláště precizně modelo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to totiž lze využí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tranní kaná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ekty R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ísto toho se však obvykle předpokládá (předpokládalo), 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ákladní matematický popis schématu přesně odpovídá realit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ranní kaná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efinice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ranním kanálem (PK) nazveme každý </a:t>
            </a:r>
            <a:r>
              <a:rPr b="0" i="1" lang="cs-CZ" sz="2800" spc="-1" strike="noStrike" u="sng">
                <a:solidFill>
                  <a:srgbClr val="ff0000"/>
                </a:solidFill>
                <a:uFillTx/>
                <a:latin typeface="Arial"/>
              </a:rPr>
              <a:t>nežádoucí způsob výměny informací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mezi kryptografickým modulem a jeho okolí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asový P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udový (napěťový) P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Elektromagnetický P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Chybový P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eptografický P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patří do P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83908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 obecného pohledu bychom mohli do oblasti PK zařadit celou kryptoanalýz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o vědu o využití informace z postranních kanál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eferujeme však (zatím) řadit sem kryptoanalýzu odvozenou teprve po rozšíření abstraktního popi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tudujeme takové kanály, které jsou „vidět“ teprve při zahrnutí fyzikálních teorií (neplynou ze základních axiomů matemati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rozšířený model kryptografického modu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 časovým P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5105520"/>
            <a:ext cx="81532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Tim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A – Differential Tim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066680" y="1752480"/>
            <a:ext cx="7010280" cy="3276360"/>
            <a:chOff x="1066680" y="1752480"/>
            <a:chExt cx="7010280" cy="3276360"/>
          </a:xfrm>
        </p:grpSpPr>
        <p:grpSp>
          <p:nvGrpSpPr>
            <p:cNvPr id="309" name=""/>
            <p:cNvGrpSpPr/>
            <p:nvPr/>
          </p:nvGrpSpPr>
          <p:grpSpPr>
            <a:xfrm>
              <a:off x="1365120" y="1752480"/>
              <a:ext cx="5518800" cy="1791360"/>
              <a:chOff x="1365120" y="1752480"/>
              <a:chExt cx="5518800" cy="1791360"/>
            </a:xfrm>
          </p:grpSpPr>
          <p:sp>
            <p:nvSpPr>
              <p:cNvPr id="310" name=""/>
              <p:cNvSpPr/>
              <p:nvPr/>
            </p:nvSpPr>
            <p:spPr>
              <a:xfrm>
                <a:off x="1365120" y="1752480"/>
                <a:ext cx="5518800" cy="1791360"/>
              </a:xfrm>
              <a:prstGeom prst="rect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apadený modul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514160" y="2349360"/>
                <a:ext cx="1491480" cy="79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ekódování příkazu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751560" y="2349360"/>
                <a:ext cx="1342440" cy="79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výpoč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690520" y="2349360"/>
                <a:ext cx="1044000" cy="79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kódová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odpověd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06000" y="2747520"/>
                <a:ext cx="745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06000" y="2349360"/>
                <a:ext cx="745560" cy="5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94000" y="2349360"/>
                <a:ext cx="745560" cy="59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94000" y="2747520"/>
                <a:ext cx="59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1066680" y="4339440"/>
              <a:ext cx="671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331400" y="4339440"/>
              <a:ext cx="745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čas 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6680" y="2746440"/>
              <a:ext cx="44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34520" y="274644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5720" y="2746440"/>
              <a:ext cx="0" cy="15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32960" y="2746440"/>
              <a:ext cx="0" cy="159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5720" y="4339440"/>
              <a:ext cx="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32960" y="4339440"/>
              <a:ext cx="0" cy="19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56680" y="4339440"/>
              <a:ext cx="7455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942960" y="4339440"/>
              <a:ext cx="4471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cs-CZ" sz="1800" spc="-1" strike="noStrike" baseline="-25000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093640" y="2640600"/>
              <a:ext cx="0" cy="167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51560" y="2640600"/>
              <a:ext cx="0" cy="167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51560" y="42332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93640" y="4233240"/>
              <a:ext cx="0" cy="3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51560" y="4432320"/>
              <a:ext cx="7455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93640" y="4432320"/>
              <a:ext cx="7455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 proudovým P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153280" cy="11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A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Pow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A – Differential Pow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609120" y="1752480"/>
            <a:ext cx="7848720" cy="3428640"/>
            <a:chOff x="609120" y="1752480"/>
            <a:chExt cx="7848720" cy="3428640"/>
          </a:xfrm>
        </p:grpSpPr>
        <p:sp>
          <p:nvSpPr>
            <p:cNvPr id="337" name=""/>
            <p:cNvSpPr/>
            <p:nvPr/>
          </p:nvSpPr>
          <p:spPr>
            <a:xfrm>
              <a:off x="4030560" y="1752480"/>
              <a:ext cx="382356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napěťové vstu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apadený mod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datové signá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hodin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10720" y="1752480"/>
              <a:ext cx="100620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droj napět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816920" y="1981080"/>
              <a:ext cx="221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823120" y="2209680"/>
              <a:ext cx="603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816920" y="2325240"/>
              <a:ext cx="100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30440" y="2325240"/>
              <a:ext cx="60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10720" y="3580920"/>
              <a:ext cx="140868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Časová základ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21880" y="2325240"/>
              <a:ext cx="0" cy="171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030560" y="3580920"/>
              <a:ext cx="160992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/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řevodní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31680" y="2325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31680" y="369288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21880" y="4038480"/>
              <a:ext cx="140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219400" y="4267080"/>
              <a:ext cx="181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018160" y="2895480"/>
              <a:ext cx="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18160" y="2895480"/>
              <a:ext cx="201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23120" y="2438280"/>
              <a:ext cx="80496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R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4560" y="3580920"/>
              <a:ext cx="1609920" cy="91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uštící zaříz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40840" y="3809520"/>
              <a:ext cx="603360" cy="457200"/>
            </a:xfrm>
            <a:prstGeom prst="rightArrow">
              <a:avLst>
                <a:gd name="adj1" fmla="val 50000"/>
                <a:gd name="adj2" fmla="val 329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54480" y="3809520"/>
              <a:ext cx="402480" cy="45720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54480" y="2209680"/>
              <a:ext cx="402480" cy="4568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56960" y="2325240"/>
              <a:ext cx="200880" cy="182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609120" y="4723920"/>
              <a:ext cx="644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09480" y="2209680"/>
              <a:ext cx="0" cy="251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47920" y="4495320"/>
              <a:ext cx="201240" cy="228600"/>
            </a:xfrm>
            <a:prstGeom prst="upArrow">
              <a:avLst>
                <a:gd name="adj1" fmla="val 50000"/>
                <a:gd name="adj2" fmla="val 283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34280" y="4495320"/>
              <a:ext cx="201240" cy="228600"/>
            </a:xfrm>
            <a:prstGeom prst="upArrow">
              <a:avLst>
                <a:gd name="adj1" fmla="val 50000"/>
                <a:gd name="adj2" fmla="val 283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212840" y="4495320"/>
              <a:ext cx="201240" cy="228600"/>
            </a:xfrm>
            <a:prstGeom prst="upArrow">
              <a:avLst>
                <a:gd name="adj1" fmla="val 50000"/>
                <a:gd name="adj2" fmla="val 283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9480" y="2209680"/>
              <a:ext cx="201240" cy="2286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219400" y="4723920"/>
              <a:ext cx="3018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řídící laboratorní sběrn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O pojmu </a:t>
            </a:r>
            <a:r>
              <a:rPr b="0" i="1" lang="en-US" sz="4200" spc="-1" strike="noStrike">
                <a:solidFill>
                  <a:srgbClr val="330033"/>
                </a:solidFill>
                <a:latin typeface="Times New Roman"/>
              </a:rPr>
              <a:t>bezpečnost</a:t>
            </a:r>
            <a:br>
              <a:rPr sz="4200"/>
            </a:br>
            <a:r>
              <a:rPr b="0" lang="en-US" sz="2100" spc="-1" strike="noStrike">
                <a:solidFill>
                  <a:srgbClr val="330033"/>
                </a:solidFill>
                <a:latin typeface="Times New Roman"/>
              </a:rPr>
              <a:t>Poznámka o hodnocení kryptografické bezpečnosti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odmíněná bezp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ze dokázat, že schéma nelze prolomit (prolomení definujeme jako ztrátu některé z proklamovaných vlastností – zajištění důvěrnosti, integrity, ...)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bez ohledu na prostředky útoční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láštní třída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absolutní bezpeč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u šif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erfect secrec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točník nezíská interakcí se systémem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žádnou novou užitečnou informa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ěná bezp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o neprolomitelnosti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e opírá o omezení prostředků útoční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častěji se užívá výpočetně-složitostní přístup: útočník je omezen co do velikosti a růstu své výpočetní sí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rokazatelná bezpečn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existuje důkaz o tom, že schopnost provést útok znamená schopnost řešit problém, u kterého se obecně uznává jeho vysoká složit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je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ložitos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ze zobecnit na libovolné fyzické prostř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FD9-8F2E-4196-BC34-6269EE0CED41}" type="slidenum">
              <a:t>3</a:t>
            </a:fld>
          </a:p>
        </p:txBody>
      </p:sp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SPA - SIM</a:t>
            </a:r>
            <a:br>
              <a:rPr sz="4200"/>
            </a:br>
            <a:r>
              <a:rPr b="0" lang="cs-CZ" sz="2100" spc="-1" strike="noStrike">
                <a:solidFill>
                  <a:srgbClr val="330033"/>
                </a:solidFill>
                <a:latin typeface="Times New Roman"/>
              </a:rPr>
              <a:t>Ověřování</a:t>
            </a:r>
            <a:r>
              <a:rPr b="0" lang="en-US" sz="2100" spc="-1" strike="noStrike">
                <a:solidFill>
                  <a:srgbClr val="330033"/>
                </a:solidFill>
                <a:latin typeface="Times New Roman"/>
              </a:rPr>
              <a:t> PIN</a:t>
            </a:r>
            <a:r>
              <a:rPr b="0" lang="cs-CZ" sz="2100" spc="-1" strike="noStrike">
                <a:solidFill>
                  <a:srgbClr val="330033"/>
                </a:solidFill>
                <a:latin typeface="Times New Roman"/>
              </a:rPr>
              <a:t>u 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4062240" cy="211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1258920" y="4365720"/>
            <a:ext cx="4062240" cy="2114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5848560" y="5543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Verdana"/>
              </a:rPr>
              <a:t>PIN 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872320" y="3166920"/>
            <a:ext cx="209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33"/>
                </a:solidFill>
                <a:latin typeface="Verdana"/>
              </a:rPr>
              <a:t>PIN 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 elektromagnetickým PK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4920" y="1916280"/>
            <a:ext cx="815328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aradoxně „nejmladší“ zástupce postranních kaná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vní veřejná zpráva: květen 200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vní laboratorní výsledky jsou alarmují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SL akcelerátor na sběrnici PCI vyzařoval do vzdálenosti 12,192 m (40 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ve vzdálenosti 4,572 m (15 ft) šlo rozeznat základní fáze výpočtu R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640" y="-72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640" y="-720"/>
            <a:ext cx="22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K elektromagnetickým PK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15328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Šíření (pro účely klasifikace senso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adiač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onduktiv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nos inform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ímý (nejméně perspektivní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odulovaný (na vyšších harmonických se dobře šíří a je málo ruše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AM (použito u SSL akcelerátor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03400" indent="-29196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299 MHz,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1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FM/P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K elektromagnetickým PK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(3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15328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hody oproti napěťově-proudovým kanálů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pší propagace prostředí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ýká se zejména modulovaného přenosu po vyšších harmonických hodin (zejména lichých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pší lokalizovatelnost při korelační analý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íky rozdílnému způsobu buzení a snímání odezvy lze lépe odlišit vyzařující partie obvod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K chybovým P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dat zatížených vnitřní chybou mod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ientní chy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manentní chy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dování reakce zařízení na záměrně poškozená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ýstup chybových kódů je často velmi riskan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ásady slušného programování vs. bezpečn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5753160" y="952560"/>
            <a:ext cx="2628720" cy="102852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495600" y="4267080"/>
            <a:ext cx="1828800" cy="57168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81600" y="5638680"/>
            <a:ext cx="2514600" cy="91440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867280" y="3124080"/>
            <a:ext cx="2400480" cy="68580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381480" y="1981080"/>
            <a:ext cx="4685760" cy="1143000"/>
            <a:chOff x="3381480" y="1981080"/>
            <a:chExt cx="4685760" cy="1143000"/>
          </a:xfrm>
        </p:grpSpPr>
        <p:sp>
          <p:nvSpPr>
            <p:cNvPr id="385" name=""/>
            <p:cNvSpPr/>
            <p:nvPr/>
          </p:nvSpPr>
          <p:spPr>
            <a:xfrm>
              <a:off x="3381480" y="2095200"/>
              <a:ext cx="2057040" cy="800280"/>
            </a:xfrm>
            <a:prstGeom prst="ellipse">
              <a:avLst/>
            </a:prstGeom>
            <a:solidFill>
              <a:srgbClr val="fe353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ass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124320" y="2323800"/>
              <a:ext cx="19429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cry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38520" y="255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038720" y="19810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38720" y="278100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5324400" y="3809880"/>
            <a:ext cx="2743200" cy="1828800"/>
            <a:chOff x="5324400" y="3809880"/>
            <a:chExt cx="2743200" cy="1828800"/>
          </a:xfrm>
        </p:grpSpPr>
        <p:sp>
          <p:nvSpPr>
            <p:cNvPr id="391" name=""/>
            <p:cNvSpPr/>
            <p:nvPr/>
          </p:nvSpPr>
          <p:spPr>
            <a:xfrm>
              <a:off x="6124320" y="4209840"/>
              <a:ext cx="1943280" cy="628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g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324400" y="4495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038720" y="483840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03872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Normální situa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00000">
            <a:off x="142560" y="3946680"/>
            <a:ext cx="32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0033"/>
                </a:solidFill>
                <a:latin typeface="Verdana"/>
              </a:rPr>
              <a:t>Podepsání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286000" y="2133720"/>
            <a:ext cx="457200" cy="3504960"/>
          </a:xfrm>
          <a:custGeom>
            <a:avLst/>
            <a:gdLst>
              <a:gd name="textAreaLeft" fmla="*/ 292320 w 457200"/>
              <a:gd name="textAreaRight" fmla="*/ 457560 w 4572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5715000" y="914400"/>
            <a:ext cx="2629080" cy="10288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495600" y="4267080"/>
            <a:ext cx="1828800" cy="57168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781600" y="5638680"/>
            <a:ext cx="2514600" cy="914400"/>
          </a:xfrm>
          <a:prstGeom prst="ellipse">
            <a:avLst/>
          </a:prstGeom>
          <a:solidFill>
            <a:srgbClr val="00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67280" y="3124080"/>
            <a:ext cx="2400480" cy="685800"/>
          </a:xfrm>
          <a:prstGeom prst="ellipse">
            <a:avLst/>
          </a:prstGeom>
          <a:solidFill>
            <a:srgbClr val="f4553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381480" y="1981080"/>
            <a:ext cx="4685760" cy="1143000"/>
            <a:chOff x="3381480" y="1981080"/>
            <a:chExt cx="4685760" cy="1143000"/>
          </a:xfrm>
        </p:grpSpPr>
        <p:sp>
          <p:nvSpPr>
            <p:cNvPr id="403" name=""/>
            <p:cNvSpPr/>
            <p:nvPr/>
          </p:nvSpPr>
          <p:spPr>
            <a:xfrm>
              <a:off x="3381480" y="2095200"/>
              <a:ext cx="2057040" cy="800280"/>
            </a:xfrm>
            <a:prstGeom prst="ellipse">
              <a:avLst/>
            </a:prstGeom>
            <a:solidFill>
              <a:srgbClr val="fe353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Passwo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124320" y="2323800"/>
              <a:ext cx="1942920" cy="4572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cryp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8520" y="2552400"/>
              <a:ext cx="68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038720" y="19810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38720" y="278100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5324400" y="3809880"/>
            <a:ext cx="2743200" cy="1828800"/>
            <a:chOff x="5324400" y="3809880"/>
            <a:chExt cx="2743200" cy="1828800"/>
          </a:xfrm>
        </p:grpSpPr>
        <p:sp>
          <p:nvSpPr>
            <p:cNvPr id="409" name=""/>
            <p:cNvSpPr/>
            <p:nvPr/>
          </p:nvSpPr>
          <p:spPr>
            <a:xfrm>
              <a:off x="6124320" y="4209840"/>
              <a:ext cx="1943280" cy="628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ig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24400" y="449568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38720" y="4838400"/>
              <a:ext cx="0" cy="80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3872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...při útok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80880" y="1828800"/>
            <a:ext cx="2356920" cy="2561760"/>
            <a:chOff x="380880" y="1828800"/>
            <a:chExt cx="2356920" cy="2561760"/>
          </a:xfrm>
        </p:grpSpPr>
        <p:pic>
          <p:nvPicPr>
            <p:cNvPr id="415" name="" descr=""/>
            <p:cNvPicPr/>
            <p:nvPr/>
          </p:nvPicPr>
          <p:blipFill>
            <a:blip r:embed="rId1"/>
            <a:stretch/>
          </p:blipFill>
          <p:spPr>
            <a:xfrm>
              <a:off x="380880" y="1828800"/>
              <a:ext cx="213372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"/>
            <p:cNvSpPr/>
            <p:nvPr/>
          </p:nvSpPr>
          <p:spPr>
            <a:xfrm>
              <a:off x="658080" y="3809880"/>
              <a:ext cx="2079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33"/>
                  </a:solidFill>
                  <a:latin typeface="Verdana"/>
                </a:rPr>
                <a:t>Útočník využívajíc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33"/>
                  </a:solidFill>
                  <a:latin typeface="Verdana"/>
                </a:rPr>
                <a:t>postranní kaná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"/>
          <p:cNvSpPr/>
          <p:nvPr/>
        </p:nvSpPr>
        <p:spPr>
          <a:xfrm>
            <a:off x="5715000" y="914400"/>
            <a:ext cx="2629080" cy="1028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encry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905120" y="1447560"/>
            <a:ext cx="3809880" cy="1218960"/>
            <a:chOff x="1905120" y="1447560"/>
            <a:chExt cx="3809880" cy="1218960"/>
          </a:xfrm>
        </p:grpSpPr>
        <p:sp>
          <p:nvSpPr>
            <p:cNvPr id="419" name=""/>
            <p:cNvSpPr/>
            <p:nvPr/>
          </p:nvSpPr>
          <p:spPr>
            <a:xfrm flipV="1">
              <a:off x="1905120" y="1676160"/>
              <a:ext cx="685800" cy="99036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2590920" y="1447560"/>
              <a:ext cx="3124080" cy="22860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053120" y="3809880"/>
            <a:ext cx="341280" cy="1879560"/>
          </a:xfrm>
          <a:custGeom>
            <a:avLst/>
            <a:gdLst/>
            <a:ahLst/>
            <a:rect l="l" t="t" r="r" b="b"/>
            <a:pathLst>
              <a:path w="215" h="2350">
                <a:moveTo>
                  <a:pt x="0" y="0"/>
                </a:moveTo>
                <a:cubicBezTo>
                  <a:pt x="215" y="176"/>
                  <a:pt x="200" y="104"/>
                  <a:pt x="83" y="147"/>
                </a:cubicBezTo>
                <a:cubicBezTo>
                  <a:pt x="70" y="198"/>
                  <a:pt x="61" y="185"/>
                  <a:pt x="28" y="220"/>
                </a:cubicBezTo>
                <a:cubicBezTo>
                  <a:pt x="14" y="274"/>
                  <a:pt x="26" y="273"/>
                  <a:pt x="64" y="311"/>
                </a:cubicBezTo>
                <a:cubicBezTo>
                  <a:pt x="77" y="347"/>
                  <a:pt x="67" y="367"/>
                  <a:pt x="55" y="403"/>
                </a:cubicBezTo>
                <a:cubicBezTo>
                  <a:pt x="64" y="459"/>
                  <a:pt x="60" y="519"/>
                  <a:pt x="92" y="567"/>
                </a:cubicBezTo>
                <a:cubicBezTo>
                  <a:pt x="82" y="608"/>
                  <a:pt x="64" y="621"/>
                  <a:pt x="46" y="659"/>
                </a:cubicBezTo>
                <a:cubicBezTo>
                  <a:pt x="63" y="685"/>
                  <a:pt x="71" y="710"/>
                  <a:pt x="92" y="732"/>
                </a:cubicBezTo>
                <a:cubicBezTo>
                  <a:pt x="81" y="788"/>
                  <a:pt x="75" y="780"/>
                  <a:pt x="46" y="823"/>
                </a:cubicBezTo>
                <a:cubicBezTo>
                  <a:pt x="57" y="867"/>
                  <a:pt x="67" y="905"/>
                  <a:pt x="92" y="942"/>
                </a:cubicBezTo>
                <a:cubicBezTo>
                  <a:pt x="40" y="992"/>
                  <a:pt x="42" y="1054"/>
                  <a:pt x="92" y="1107"/>
                </a:cubicBezTo>
                <a:cubicBezTo>
                  <a:pt x="109" y="1157"/>
                  <a:pt x="104" y="1115"/>
                  <a:pt x="74" y="1152"/>
                </a:cubicBezTo>
                <a:cubicBezTo>
                  <a:pt x="68" y="1160"/>
                  <a:pt x="67" y="1171"/>
                  <a:pt x="64" y="1180"/>
                </a:cubicBezTo>
                <a:cubicBezTo>
                  <a:pt x="78" y="1245"/>
                  <a:pt x="98" y="1238"/>
                  <a:pt x="83" y="1308"/>
                </a:cubicBezTo>
                <a:cubicBezTo>
                  <a:pt x="78" y="1333"/>
                  <a:pt x="64" y="1381"/>
                  <a:pt x="64" y="1381"/>
                </a:cubicBezTo>
                <a:cubicBezTo>
                  <a:pt x="72" y="1456"/>
                  <a:pt x="90" y="1482"/>
                  <a:pt x="64" y="1545"/>
                </a:cubicBezTo>
                <a:cubicBezTo>
                  <a:pt x="64" y="1549"/>
                  <a:pt x="92" y="1730"/>
                  <a:pt x="74" y="1783"/>
                </a:cubicBezTo>
                <a:cubicBezTo>
                  <a:pt x="83" y="1831"/>
                  <a:pt x="102" y="1853"/>
                  <a:pt x="128" y="1893"/>
                </a:cubicBezTo>
                <a:cubicBezTo>
                  <a:pt x="96" y="1914"/>
                  <a:pt x="86" y="1930"/>
                  <a:pt x="74" y="1966"/>
                </a:cubicBezTo>
                <a:cubicBezTo>
                  <a:pt x="93" y="2024"/>
                  <a:pt x="94" y="2043"/>
                  <a:pt x="74" y="2103"/>
                </a:cubicBezTo>
                <a:cubicBezTo>
                  <a:pt x="77" y="2121"/>
                  <a:pt x="76" y="2141"/>
                  <a:pt x="83" y="2158"/>
                </a:cubicBezTo>
                <a:cubicBezTo>
                  <a:pt x="114" y="2230"/>
                  <a:pt x="121" y="2131"/>
                  <a:pt x="101" y="2231"/>
                </a:cubicBezTo>
                <a:cubicBezTo>
                  <a:pt x="104" y="2252"/>
                  <a:pt x="106" y="2274"/>
                  <a:pt x="110" y="2295"/>
                </a:cubicBezTo>
                <a:cubicBezTo>
                  <a:pt x="112" y="2305"/>
                  <a:pt x="119" y="2313"/>
                  <a:pt x="119" y="2323"/>
                </a:cubicBezTo>
                <a:cubicBezTo>
                  <a:pt x="119" y="2332"/>
                  <a:pt x="110" y="2350"/>
                  <a:pt x="110" y="2350"/>
                </a:cubicBezTo>
              </a:path>
            </a:pathLst>
          </a:custGeom>
          <a:noFill/>
          <a:ln w="57240">
            <a:solidFill>
              <a:srgbClr val="9900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91320" y="5638680"/>
            <a:ext cx="2514600" cy="9144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286000" y="3048120"/>
            <a:ext cx="1828800" cy="761760"/>
          </a:xfrm>
          <a:prstGeom prst="ellipse">
            <a:avLst/>
          </a:prstGeom>
          <a:solidFill>
            <a:srgbClr val="00ff00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ublic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28600" y="4648320"/>
            <a:ext cx="2400480" cy="685800"/>
          </a:xfrm>
          <a:prstGeom prst="ellipse">
            <a:avLst/>
          </a:prstGeom>
          <a:solidFill>
            <a:srgbClr val="f4553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371600" y="3809880"/>
            <a:ext cx="4419360" cy="2590920"/>
            <a:chOff x="1371600" y="3809880"/>
            <a:chExt cx="4419360" cy="2590920"/>
          </a:xfrm>
        </p:grpSpPr>
        <p:sp>
          <p:nvSpPr>
            <p:cNvPr id="426" name=""/>
            <p:cNvSpPr/>
            <p:nvPr/>
          </p:nvSpPr>
          <p:spPr>
            <a:xfrm>
              <a:off x="2286000" y="5715000"/>
              <a:ext cx="1752480" cy="685800"/>
            </a:xfrm>
            <a:prstGeom prst="rect">
              <a:avLst/>
            </a:prstGeom>
            <a:solidFill>
              <a:srgbClr val="ff66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Verdana"/>
                </a:rPr>
                <a:t>Attacker</a:t>
              </a: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ro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00400" y="3809880"/>
              <a:ext cx="0" cy="19051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038120" y="6095880"/>
              <a:ext cx="1752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19720" y="48006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3657240" y="5257800"/>
              <a:ext cx="7621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57600" y="5257800"/>
              <a:ext cx="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1371600" y="6095880"/>
              <a:ext cx="914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371600" y="5334120"/>
              <a:ext cx="0" cy="761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SL/TLS</a:t>
            </a:r>
            <a:br>
              <a:rPr sz="4200"/>
            </a:b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Navázání spojen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446040" y="1360080"/>
            <a:ext cx="3067200" cy="2994480"/>
            <a:chOff x="446040" y="1360080"/>
            <a:chExt cx="3067200" cy="2994480"/>
          </a:xfrm>
        </p:grpSpPr>
        <p:pic>
          <p:nvPicPr>
            <p:cNvPr id="436" name="" descr=""/>
            <p:cNvPicPr/>
            <p:nvPr/>
          </p:nvPicPr>
          <p:blipFill>
            <a:blip r:embed="rId1"/>
            <a:stretch/>
          </p:blipFill>
          <p:spPr>
            <a:xfrm>
              <a:off x="1195560" y="1916280"/>
              <a:ext cx="1008000" cy="95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2"/>
            <a:stretch/>
          </p:blipFill>
          <p:spPr>
            <a:xfrm flipH="1">
              <a:off x="2195640" y="2637000"/>
              <a:ext cx="628560" cy="10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1153800" y="304164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33"/>
                  </a:solidFill>
                  <a:latin typeface="Verdana"/>
                </a:rPr>
                <a:t>k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2401800">
              <a:off x="755280" y="1929960"/>
              <a:ext cx="2448000" cy="185436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6632280" y="342900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Verdan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erver"/>
          <p:cNvSpPr/>
          <p:nvPr/>
        </p:nvSpPr>
        <p:spPr>
          <a:xfrm>
            <a:off x="6443640" y="2060640"/>
            <a:ext cx="1120680" cy="13366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2484360" y="3838680"/>
            <a:ext cx="4680000" cy="398880"/>
            <a:chOff x="2484360" y="3838680"/>
            <a:chExt cx="4680000" cy="398880"/>
          </a:xfrm>
        </p:grpSpPr>
        <p:sp>
          <p:nvSpPr>
            <p:cNvPr id="443" name=""/>
            <p:cNvSpPr/>
            <p:nvPr/>
          </p:nvSpPr>
          <p:spPr>
            <a:xfrm>
              <a:off x="2484360" y="4221000"/>
              <a:ext cx="4680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068720" y="383868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0033"/>
                  </a:solidFill>
                  <a:latin typeface="Courier New"/>
                </a:rPr>
                <a:t>ClientHell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2484360" y="4437000"/>
            <a:ext cx="5786280" cy="398880"/>
            <a:chOff x="2484360" y="4437000"/>
            <a:chExt cx="5786280" cy="398880"/>
          </a:xfrm>
        </p:grpSpPr>
        <p:sp>
          <p:nvSpPr>
            <p:cNvPr id="446" name=""/>
            <p:cNvSpPr/>
            <p:nvPr/>
          </p:nvSpPr>
          <p:spPr>
            <a:xfrm>
              <a:off x="2484360" y="4797360"/>
              <a:ext cx="4680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60720" y="4437000"/>
              <a:ext cx="520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30033"/>
                  </a:solidFill>
                  <a:latin typeface="Courier New"/>
                </a:rPr>
                <a:t>ServerHello, </a:t>
              </a:r>
              <a:r>
                <a:rPr b="1" lang="cs-CZ" sz="2000" spc="-1" strike="noStrike">
                  <a:solidFill>
                    <a:srgbClr val="330033"/>
                  </a:solidFill>
                  <a:latin typeface="Courier New"/>
                </a:rPr>
                <a:t>...</a:t>
              </a:r>
              <a:r>
                <a:rPr b="1" lang="it-IT" sz="2000" spc="-1" strike="noStrike">
                  <a:solidFill>
                    <a:srgbClr val="330033"/>
                  </a:solidFill>
                  <a:latin typeface="Courier New"/>
                </a:rPr>
                <a:t>, ServerHello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541440" y="5013360"/>
            <a:ext cx="6622920" cy="431640"/>
            <a:chOff x="541440" y="5013360"/>
            <a:chExt cx="6622920" cy="431640"/>
          </a:xfrm>
        </p:grpSpPr>
        <p:sp>
          <p:nvSpPr>
            <p:cNvPr id="449" name=""/>
            <p:cNvSpPr/>
            <p:nvPr/>
          </p:nvSpPr>
          <p:spPr>
            <a:xfrm>
              <a:off x="2484360" y="5445000"/>
              <a:ext cx="4680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41440" y="5013360"/>
              <a:ext cx="5057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>
                  <a:solidFill>
                    <a:srgbClr val="330033"/>
                  </a:solidFill>
                  <a:latin typeface="Courier New"/>
                </a:rPr>
                <a:t>..., </a:t>
              </a:r>
              <a:r>
                <a:rPr b="1" lang="cs-CZ" sz="2000" spc="-1" strike="noStrike" u="sng">
                  <a:solidFill>
                    <a:srgbClr val="330033"/>
                  </a:solidFill>
                  <a:uFillTx/>
                  <a:latin typeface="Courier New"/>
                </a:rPr>
                <a:t>ClientKeyExchange</a:t>
              </a:r>
              <a:r>
                <a:rPr b="1" lang="cs-CZ" sz="2000" spc="-1" strike="noStrike">
                  <a:solidFill>
                    <a:srgbClr val="330033"/>
                  </a:solidFill>
                  <a:latin typeface="Courier New"/>
                </a:rPr>
                <a:t>, Finish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2484360" y="5638680"/>
            <a:ext cx="4680000" cy="398880"/>
            <a:chOff x="2484360" y="5638680"/>
            <a:chExt cx="4680000" cy="398880"/>
          </a:xfrm>
        </p:grpSpPr>
        <p:sp>
          <p:nvSpPr>
            <p:cNvPr id="452" name=""/>
            <p:cNvSpPr/>
            <p:nvPr/>
          </p:nvSpPr>
          <p:spPr>
            <a:xfrm>
              <a:off x="2484360" y="6021360"/>
              <a:ext cx="4680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273560" y="5638680"/>
              <a:ext cx="140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 u="sng">
                  <a:solidFill>
                    <a:srgbClr val="330033"/>
                  </a:solidFill>
                  <a:uFillTx/>
                  <a:latin typeface="Courier New"/>
                </a:rPr>
                <a:t>Finish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2484360" y="6215040"/>
            <a:ext cx="4680000" cy="398880"/>
            <a:chOff x="2484360" y="6215040"/>
            <a:chExt cx="4680000" cy="398880"/>
          </a:xfrm>
        </p:grpSpPr>
        <p:sp>
          <p:nvSpPr>
            <p:cNvPr id="455" name=""/>
            <p:cNvSpPr/>
            <p:nvPr/>
          </p:nvSpPr>
          <p:spPr>
            <a:xfrm>
              <a:off x="2484360" y="6597720"/>
              <a:ext cx="46800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660840" y="6215040"/>
              <a:ext cx="277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0033"/>
                  </a:solidFill>
                  <a:latin typeface="Courier New"/>
                </a:rPr>
                <a:t>Transportní kan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3505320" y="2362320"/>
            <a:ext cx="215640" cy="2156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465800" y="2806560"/>
            <a:ext cx="21564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26160" y="2014560"/>
            <a:ext cx="21564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05440" y="2374920"/>
            <a:ext cx="21600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400720" y="2664000"/>
            <a:ext cx="216000" cy="2156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2" name=""/>
          <p:cNvCxnSpPr>
            <a:endCxn id="457" idx="2"/>
          </p:cNvCxnSpPr>
          <p:nvPr/>
        </p:nvCxnSpPr>
        <p:spPr>
          <a:xfrm flipV="1">
            <a:off x="3048120" y="2469960"/>
            <a:ext cx="457920" cy="297360"/>
          </a:xfrm>
          <a:prstGeom prst="curvedConnector5">
            <a:avLst>
              <a:gd name="adj1" fmla="val 49960"/>
              <a:gd name="adj2" fmla="val 49939"/>
              <a:gd name="adj3" fmla="val 49960"/>
            </a:avLst>
          </a:prstGeom>
          <a:ln cap="sq"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63" name=""/>
          <p:cNvCxnSpPr>
            <a:stCxn id="457" idx="6"/>
          </p:cNvCxnSpPr>
          <p:nvPr/>
        </p:nvCxnSpPr>
        <p:spPr>
          <a:xfrm>
            <a:off x="3720600" y="2470320"/>
            <a:ext cx="745560" cy="444960"/>
          </a:xfrm>
          <a:prstGeom prst="curvedConnector5">
            <a:avLst>
              <a:gd name="adj1" fmla="val 49855"/>
              <a:gd name="adj2" fmla="val 49959"/>
              <a:gd name="adj3" fmla="val 49855"/>
            </a:avLst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464" name=""/>
          <p:cNvCxnSpPr/>
          <p:nvPr/>
        </p:nvCxnSpPr>
        <p:spPr>
          <a:xfrm flipV="1">
            <a:off x="4681440" y="2197800"/>
            <a:ext cx="177120" cy="716760"/>
          </a:xfrm>
          <a:prstGeom prst="curved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465" name=""/>
          <p:cNvCxnSpPr/>
          <p:nvPr/>
        </p:nvCxnSpPr>
        <p:spPr>
          <a:xfrm>
            <a:off x="5041440" y="2122560"/>
            <a:ext cx="391320" cy="573840"/>
          </a:xfrm>
          <a:prstGeom prst="curved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466" name=""/>
          <p:cNvCxnSpPr/>
          <p:nvPr/>
        </p:nvCxnSpPr>
        <p:spPr>
          <a:xfrm flipH="1" flipV="1" rot="5400000">
            <a:off x="5669280" y="2504520"/>
            <a:ext cx="257760" cy="429480"/>
          </a:xfrm>
          <a:prstGeom prst="curvedConnector5">
            <a:avLst>
              <a:gd name="adj1" fmla="val -101118"/>
              <a:gd name="adj2" fmla="val 50000"/>
              <a:gd name="adj3" fmla="val -101118"/>
            </a:avLst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467" name=""/>
          <p:cNvCxnSpPr>
            <a:endCxn id="441" idx="8"/>
          </p:cNvCxnSpPr>
          <p:nvPr/>
        </p:nvCxnSpPr>
        <p:spPr>
          <a:xfrm flipH="1" rot="10800000">
            <a:off x="6013080" y="2059920"/>
            <a:ext cx="430920" cy="315000"/>
          </a:xfrm>
          <a:prstGeom prst="curvedConnector5">
            <a:avLst>
              <a:gd name="adj1" fmla="val -18060"/>
              <a:gd name="adj2" fmla="val 86270"/>
              <a:gd name="adj3" fmla="val -18060"/>
            </a:avLst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468" name="" descr=""/>
          <p:cNvPicPr/>
          <p:nvPr/>
        </p:nvPicPr>
        <p:blipFill>
          <a:blip r:embed="rId3"/>
          <a:stretch/>
        </p:blipFill>
        <p:spPr>
          <a:xfrm>
            <a:off x="4038480" y="2209680"/>
            <a:ext cx="1006560" cy="1428840"/>
          </a:xfrm>
          <a:prstGeom prst="rect">
            <a:avLst/>
          </a:prstGeom>
          <a:ln w="0">
            <a:noFill/>
          </a:ln>
        </p:spPr>
      </p:pic>
    </p:spTree>
  </p:cSld>
  <p:transition>
    <p:strips dir="rd"/>
    <p:sndAc>
      <p:stSnd>
        <p:snd r:embed="rId4" name="voltage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038480" y="1295280"/>
            <a:ext cx="858960" cy="12193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SL/TLS - </a:t>
            </a: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Chybový postranní kanál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1" name="server"/>
          <p:cNvSpPr/>
          <p:nvPr/>
        </p:nvSpPr>
        <p:spPr>
          <a:xfrm>
            <a:off x="7524720" y="1844640"/>
            <a:ext cx="649440" cy="720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1116000" y="2830680"/>
            <a:ext cx="5400360" cy="745560"/>
            <a:chOff x="1116000" y="2830680"/>
            <a:chExt cx="5400360" cy="745560"/>
          </a:xfrm>
        </p:grpSpPr>
        <p:sp>
          <p:nvSpPr>
            <p:cNvPr id="473" name=""/>
            <p:cNvSpPr/>
            <p:nvPr/>
          </p:nvSpPr>
          <p:spPr>
            <a:xfrm>
              <a:off x="1657800" y="3500280"/>
              <a:ext cx="47170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16000" y="2830680"/>
              <a:ext cx="540036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 u="sng">
                  <a:solidFill>
                    <a:srgbClr val="330033"/>
                  </a:solidFill>
                  <a:uFillTx/>
                  <a:latin typeface="Courier New"/>
                </a:rPr>
                <a:t>ClientKeyExchange</a:t>
              </a:r>
              <a:r>
                <a:rPr b="1" lang="en-US" sz="2000" spc="-1" strike="noStrike" u="sng" baseline="-25000">
                  <a:solidFill>
                    <a:srgbClr val="330033"/>
                  </a:solidFill>
                  <a:uFillTx/>
                  <a:latin typeface="Courier New"/>
                </a:rPr>
                <a:t>RSA</a:t>
              </a:r>
              <a:r>
                <a:rPr b="1" lang="en-US" sz="2000" spc="-1" strike="noStrike" u="sng">
                  <a:solidFill>
                    <a:srgbClr val="330033"/>
                  </a:solidFill>
                  <a:uFillTx/>
                  <a:latin typeface="Courier New"/>
                </a:rPr>
                <a:t>, Finish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cs-CZ" sz="2000" spc="-1" strike="noStrike">
                  <a:solidFill>
                    <a:srgbClr val="330033"/>
                  </a:solidFill>
                  <a:latin typeface="Courier New"/>
                </a:rPr>
                <a:t>C</a:t>
              </a:r>
              <a:r>
                <a:rPr b="1" lang="cs-CZ" sz="2000" spc="-1" strike="noStrike">
                  <a:solidFill>
                    <a:srgbClr val="330033"/>
                  </a:solidFill>
                  <a:latin typeface="Courier New"/>
                </a:rPr>
                <a:t> = </a:t>
              </a:r>
              <a:r>
                <a:rPr b="1" lang="en-US" sz="2000" spc="-1" strike="noStrike">
                  <a:solidFill>
                    <a:srgbClr val="330033"/>
                  </a:solidFill>
                  <a:latin typeface="Courier New"/>
                </a:rPr>
                <a:t>[</a:t>
              </a:r>
              <a:r>
                <a:rPr b="1" i="1" lang="cs-CZ" sz="2000" spc="-1" strike="noStrike">
                  <a:solidFill>
                    <a:srgbClr val="330033"/>
                  </a:solidFill>
                  <a:latin typeface="Symbol"/>
                  <a:ea typeface="Symbol"/>
                </a:rPr>
                <a:t></a:t>
              </a:r>
              <a:r>
                <a:rPr b="1" lang="cs-CZ" sz="2000" spc="-1" strike="noStrike">
                  <a:solidFill>
                    <a:srgbClr val="330033"/>
                  </a:solidFill>
                  <a:latin typeface="Courier New"/>
                </a:rPr>
                <a:t>(</a:t>
              </a:r>
              <a:r>
                <a:rPr b="1" i="1" lang="cs-CZ" sz="2000" spc="-1" strike="noStrike">
                  <a:solidFill>
                    <a:srgbClr val="330033"/>
                  </a:solidFill>
                  <a:latin typeface="Courier New"/>
                </a:rPr>
                <a:t>premaster-secret</a:t>
              </a:r>
              <a:r>
                <a:rPr b="1" lang="cs-CZ" sz="2000" spc="-1" strike="noStrike">
                  <a:solidFill>
                    <a:srgbClr val="330033"/>
                  </a:solidFill>
                  <a:latin typeface="Courier New"/>
                </a:rPr>
                <a:t>)</a:t>
              </a:r>
              <a:r>
                <a:rPr b="1" lang="en-US" sz="2000" spc="-1" strike="noStrike">
                  <a:solidFill>
                    <a:srgbClr val="330033"/>
                  </a:solidFill>
                  <a:latin typeface="Courier New"/>
                </a:rPr>
                <a:t>]</a:t>
              </a:r>
              <a:r>
                <a:rPr b="1" i="1" lang="en-US" sz="2000" spc="-1" strike="noStrike" baseline="30000">
                  <a:solidFill>
                    <a:srgbClr val="330033"/>
                  </a:solidFill>
                  <a:latin typeface="Courier New"/>
                </a:rPr>
                <a:t>e</a:t>
              </a:r>
              <a:r>
                <a:rPr b="1" lang="en-US" sz="2000" spc="-1" strike="noStrike">
                  <a:solidFill>
                    <a:srgbClr val="330033"/>
                  </a:solidFill>
                  <a:latin typeface="Courier New"/>
                </a:rPr>
                <a:t> mod </a:t>
              </a:r>
              <a:r>
                <a:rPr b="1" i="1" lang="cs-CZ" sz="2000" spc="-1" strike="noStrike">
                  <a:solidFill>
                    <a:srgbClr val="330033"/>
                  </a:solidFill>
                  <a:latin typeface="Courier New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7497720" y="2492280"/>
            <a:ext cx="82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Verdan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40360" y="3573360"/>
            <a:ext cx="529092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330033"/>
                </a:solidFill>
                <a:uFillTx/>
                <a:latin typeface="Courier New"/>
              </a:rPr>
              <a:t>výpoč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Courier New"/>
              </a:rPr>
              <a:t>P</a:t>
            </a:r>
            <a:r>
              <a:rPr b="1" lang="cs-CZ" sz="1800" spc="-1" strike="noStrike">
                <a:solidFill>
                  <a:srgbClr val="330033"/>
                </a:solidFill>
                <a:latin typeface="Courier New"/>
              </a:rPr>
              <a:t> = </a:t>
            </a:r>
            <a:r>
              <a:rPr b="1" i="1" lang="en-US" sz="1800" spc="-1" strike="noStrike">
                <a:solidFill>
                  <a:srgbClr val="330033"/>
                </a:solidFill>
                <a:latin typeface="Courier New"/>
              </a:rPr>
              <a:t>C</a:t>
            </a:r>
            <a:r>
              <a:rPr b="1" i="1" lang="en-US" sz="1800" spc="-1" strike="noStrike" baseline="30000">
                <a:solidFill>
                  <a:srgbClr val="330033"/>
                </a:solidFill>
                <a:latin typeface="Courier New"/>
              </a:rPr>
              <a:t>d</a:t>
            </a:r>
            <a:r>
              <a:rPr b="1" lang="en-US" sz="1800" spc="-1" strike="noStrike">
                <a:solidFill>
                  <a:srgbClr val="330033"/>
                </a:solidFill>
                <a:latin typeface="Courier New"/>
              </a:rPr>
              <a:t> mod </a:t>
            </a:r>
            <a:r>
              <a:rPr b="1" i="1" lang="en-US" sz="1800" spc="-1" strike="noStrike">
                <a:solidFill>
                  <a:srgbClr val="330033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Courier New"/>
              </a:rPr>
              <a:t>premaster-secret</a:t>
            </a:r>
            <a:r>
              <a:rPr b="1" lang="en-US" sz="1800" spc="-1" strike="noStrike">
                <a:solidFill>
                  <a:srgbClr val="330033"/>
                </a:solidFill>
                <a:latin typeface="Courier New"/>
              </a:rPr>
              <a:t> = </a:t>
            </a:r>
            <a:r>
              <a:rPr b="1" i="1" lang="cs-CZ" sz="2000" spc="-1" strike="noStrike">
                <a:solidFill>
                  <a:srgbClr val="330033"/>
                </a:solidFill>
                <a:latin typeface="Symbol"/>
                <a:ea typeface="Symbol"/>
              </a:rPr>
              <a:t></a:t>
            </a:r>
            <a:r>
              <a:rPr b="1" lang="en-US" sz="2000" spc="-1" strike="noStrike" baseline="30000">
                <a:solidFill>
                  <a:srgbClr val="330033"/>
                </a:solidFill>
                <a:latin typeface="Courier New"/>
              </a:rPr>
              <a:t>-1</a:t>
            </a:r>
            <a:r>
              <a:rPr b="1" lang="cs-CZ" sz="2000" spc="-1" strike="noStrike">
                <a:solidFill>
                  <a:srgbClr val="330033"/>
                </a:solidFill>
                <a:latin typeface="Courier New"/>
              </a:rPr>
              <a:t>(</a:t>
            </a:r>
            <a:r>
              <a:rPr b="1" i="1" lang="en-US" sz="2000" spc="-1" strike="noStrike">
                <a:solidFill>
                  <a:srgbClr val="330033"/>
                </a:solidFill>
                <a:latin typeface="Courier New"/>
              </a:rPr>
              <a:t>P</a:t>
            </a:r>
            <a:r>
              <a:rPr b="1" lang="cs-CZ" sz="2000" spc="-1" strike="noStrike">
                <a:solidFill>
                  <a:srgbClr val="330033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Courier New"/>
              </a:rPr>
              <a:t>if (chyba:</a:t>
            </a:r>
            <a:r>
              <a:rPr b="1" i="1" lang="en-US" sz="1800" spc="-1" strike="noStrike">
                <a:solidFill>
                  <a:srgbClr val="330033"/>
                </a:solidFill>
                <a:latin typeface="Symbol"/>
                <a:ea typeface="Symbol"/>
              </a:rPr>
              <a:t></a:t>
            </a:r>
            <a:r>
              <a:rPr b="1" lang="en-US" sz="1800" spc="-1" strike="noStrike">
                <a:solidFill>
                  <a:srgbClr val="330033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0033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330033"/>
                </a:solidFill>
                <a:latin typeface="Courier New"/>
              </a:rPr>
              <a:t>premaster-secret</a:t>
            </a:r>
            <a:r>
              <a:rPr b="1" lang="en-US" sz="1800" spc="-1" strike="noStrike">
                <a:solidFill>
                  <a:srgbClr val="330033"/>
                </a:solidFill>
                <a:latin typeface="Courier New"/>
              </a:rPr>
              <a:t> = RND(4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0033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0033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0033"/>
                </a:solidFill>
                <a:latin typeface="Courier New"/>
              </a:rPr>
              <a:t>if (chyba:verze(</a:t>
            </a:r>
            <a:r>
              <a:rPr b="1" i="1" lang="en-US" sz="1800" spc="-1" strike="noStrike">
                <a:solidFill>
                  <a:srgbClr val="330033"/>
                </a:solidFill>
                <a:latin typeface="Courier New"/>
              </a:rPr>
              <a:t>premaster-secret</a:t>
            </a:r>
            <a:r>
              <a:rPr b="1" lang="en-US" sz="1800" spc="-1" strike="noStrike">
                <a:solidFill>
                  <a:srgbClr val="330033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Alert-”verz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0033"/>
                </a:solidFill>
                <a:latin typeface="Courier New"/>
              </a:rPr>
              <a:t>odvo</a:t>
            </a:r>
            <a:r>
              <a:rPr b="1" lang="cs-CZ" sz="1800" spc="-1" strike="noStrike">
                <a:solidFill>
                  <a:srgbClr val="330033"/>
                </a:solidFill>
                <a:latin typeface="Courier New"/>
              </a:rPr>
              <a:t>zení klíčů, kontrola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1332000" y="6021360"/>
            <a:ext cx="4394160" cy="398880"/>
            <a:chOff x="1332000" y="6021360"/>
            <a:chExt cx="4394160" cy="398880"/>
          </a:xfrm>
        </p:grpSpPr>
        <p:sp>
          <p:nvSpPr>
            <p:cNvPr id="478" name=""/>
            <p:cNvSpPr/>
            <p:nvPr/>
          </p:nvSpPr>
          <p:spPr>
            <a:xfrm>
              <a:off x="1332000" y="6402240"/>
              <a:ext cx="4394160" cy="1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766880" y="602136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2000" spc="-1" strike="noStrike" u="sng">
                  <a:solidFill>
                    <a:srgbClr val="330033"/>
                  </a:solidFill>
                  <a:uFillTx/>
                  <a:latin typeface="Courier New"/>
                </a:rPr>
                <a:t>Finished</a:t>
              </a:r>
              <a:r>
                <a:rPr b="1" lang="en-US" sz="2000" spc="-1" strike="noStrike" u="sng">
                  <a:solidFill>
                    <a:srgbClr val="330033"/>
                  </a:solidFill>
                  <a:uFillTx/>
                  <a:latin typeface="Courier New"/>
                </a:rPr>
                <a:t>/Ale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643280" y="5516640"/>
            <a:ext cx="2016360" cy="36036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258920" y="5877000"/>
            <a:ext cx="4275000" cy="726840"/>
          </a:xfrm>
          <a:custGeom>
            <a:avLst/>
            <a:gdLst/>
            <a:ahLst/>
            <a:rect l="l" t="t" r="r" b="b"/>
            <a:pathLst>
              <a:path w="2718" h="456">
                <a:moveTo>
                  <a:pt x="2632" y="0"/>
                </a:moveTo>
                <a:cubicBezTo>
                  <a:pt x="2623" y="26"/>
                  <a:pt x="2609" y="46"/>
                  <a:pt x="2600" y="72"/>
                </a:cubicBezTo>
                <a:cubicBezTo>
                  <a:pt x="2638" y="91"/>
                  <a:pt x="2666" y="79"/>
                  <a:pt x="2680" y="120"/>
                </a:cubicBezTo>
                <a:cubicBezTo>
                  <a:pt x="2651" y="130"/>
                  <a:pt x="2626" y="143"/>
                  <a:pt x="2600" y="160"/>
                </a:cubicBezTo>
                <a:cubicBezTo>
                  <a:pt x="2605" y="171"/>
                  <a:pt x="2607" y="184"/>
                  <a:pt x="2616" y="192"/>
                </a:cubicBezTo>
                <a:cubicBezTo>
                  <a:pt x="2618" y="193"/>
                  <a:pt x="2696" y="220"/>
                  <a:pt x="2704" y="224"/>
                </a:cubicBezTo>
                <a:cubicBezTo>
                  <a:pt x="2707" y="232"/>
                  <a:pt x="2718" y="242"/>
                  <a:pt x="2712" y="248"/>
                </a:cubicBezTo>
                <a:cubicBezTo>
                  <a:pt x="2700" y="260"/>
                  <a:pt x="2680" y="259"/>
                  <a:pt x="2664" y="264"/>
                </a:cubicBezTo>
                <a:cubicBezTo>
                  <a:pt x="2656" y="267"/>
                  <a:pt x="2640" y="272"/>
                  <a:pt x="2640" y="272"/>
                </a:cubicBezTo>
                <a:cubicBezTo>
                  <a:pt x="2624" y="321"/>
                  <a:pt x="2647" y="286"/>
                  <a:pt x="2664" y="336"/>
                </a:cubicBezTo>
                <a:cubicBezTo>
                  <a:pt x="2661" y="347"/>
                  <a:pt x="2663" y="359"/>
                  <a:pt x="2656" y="368"/>
                </a:cubicBezTo>
                <a:cubicBezTo>
                  <a:pt x="2639" y="390"/>
                  <a:pt x="2595" y="366"/>
                  <a:pt x="2576" y="360"/>
                </a:cubicBezTo>
                <a:cubicBezTo>
                  <a:pt x="2552" y="363"/>
                  <a:pt x="2526" y="359"/>
                  <a:pt x="2504" y="368"/>
                </a:cubicBezTo>
                <a:cubicBezTo>
                  <a:pt x="2496" y="371"/>
                  <a:pt x="2504" y="391"/>
                  <a:pt x="2496" y="392"/>
                </a:cubicBezTo>
                <a:cubicBezTo>
                  <a:pt x="2479" y="394"/>
                  <a:pt x="2448" y="376"/>
                  <a:pt x="2448" y="376"/>
                </a:cubicBezTo>
                <a:cubicBezTo>
                  <a:pt x="2435" y="379"/>
                  <a:pt x="2421" y="379"/>
                  <a:pt x="2408" y="384"/>
                </a:cubicBezTo>
                <a:cubicBezTo>
                  <a:pt x="2399" y="387"/>
                  <a:pt x="2393" y="402"/>
                  <a:pt x="2384" y="400"/>
                </a:cubicBezTo>
                <a:cubicBezTo>
                  <a:pt x="2365" y="396"/>
                  <a:pt x="2336" y="368"/>
                  <a:pt x="2336" y="368"/>
                </a:cubicBezTo>
                <a:cubicBezTo>
                  <a:pt x="2295" y="382"/>
                  <a:pt x="2287" y="419"/>
                  <a:pt x="2248" y="432"/>
                </a:cubicBezTo>
                <a:cubicBezTo>
                  <a:pt x="2215" y="407"/>
                  <a:pt x="2184" y="381"/>
                  <a:pt x="2144" y="368"/>
                </a:cubicBezTo>
                <a:cubicBezTo>
                  <a:pt x="2108" y="404"/>
                  <a:pt x="2103" y="415"/>
                  <a:pt x="2064" y="376"/>
                </a:cubicBezTo>
                <a:cubicBezTo>
                  <a:pt x="2051" y="379"/>
                  <a:pt x="2037" y="380"/>
                  <a:pt x="2024" y="384"/>
                </a:cubicBezTo>
                <a:cubicBezTo>
                  <a:pt x="2008" y="388"/>
                  <a:pt x="1976" y="400"/>
                  <a:pt x="1976" y="400"/>
                </a:cubicBezTo>
                <a:cubicBezTo>
                  <a:pt x="1929" y="353"/>
                  <a:pt x="1906" y="367"/>
                  <a:pt x="1856" y="400"/>
                </a:cubicBezTo>
                <a:cubicBezTo>
                  <a:pt x="1803" y="365"/>
                  <a:pt x="1773" y="395"/>
                  <a:pt x="1736" y="432"/>
                </a:cubicBezTo>
                <a:cubicBezTo>
                  <a:pt x="1702" y="421"/>
                  <a:pt x="1676" y="433"/>
                  <a:pt x="1640" y="424"/>
                </a:cubicBezTo>
                <a:cubicBezTo>
                  <a:pt x="1576" y="381"/>
                  <a:pt x="1656" y="424"/>
                  <a:pt x="1592" y="424"/>
                </a:cubicBezTo>
                <a:cubicBezTo>
                  <a:pt x="1555" y="424"/>
                  <a:pt x="1512" y="384"/>
                  <a:pt x="1488" y="360"/>
                </a:cubicBezTo>
                <a:cubicBezTo>
                  <a:pt x="1480" y="363"/>
                  <a:pt x="1471" y="363"/>
                  <a:pt x="1464" y="368"/>
                </a:cubicBezTo>
                <a:cubicBezTo>
                  <a:pt x="1456" y="374"/>
                  <a:pt x="1457" y="389"/>
                  <a:pt x="1448" y="392"/>
                </a:cubicBezTo>
                <a:cubicBezTo>
                  <a:pt x="1435" y="396"/>
                  <a:pt x="1421" y="387"/>
                  <a:pt x="1408" y="384"/>
                </a:cubicBezTo>
                <a:cubicBezTo>
                  <a:pt x="1303" y="394"/>
                  <a:pt x="1348" y="383"/>
                  <a:pt x="1272" y="408"/>
                </a:cubicBezTo>
                <a:cubicBezTo>
                  <a:pt x="1256" y="413"/>
                  <a:pt x="1224" y="424"/>
                  <a:pt x="1224" y="424"/>
                </a:cubicBezTo>
                <a:cubicBezTo>
                  <a:pt x="1193" y="377"/>
                  <a:pt x="1228" y="414"/>
                  <a:pt x="1176" y="408"/>
                </a:cubicBezTo>
                <a:cubicBezTo>
                  <a:pt x="1162" y="406"/>
                  <a:pt x="1149" y="397"/>
                  <a:pt x="1136" y="392"/>
                </a:cubicBezTo>
                <a:cubicBezTo>
                  <a:pt x="1105" y="361"/>
                  <a:pt x="1098" y="346"/>
                  <a:pt x="1056" y="360"/>
                </a:cubicBezTo>
                <a:cubicBezTo>
                  <a:pt x="1046" y="401"/>
                  <a:pt x="1045" y="415"/>
                  <a:pt x="1000" y="400"/>
                </a:cubicBezTo>
                <a:cubicBezTo>
                  <a:pt x="949" y="410"/>
                  <a:pt x="943" y="400"/>
                  <a:pt x="896" y="384"/>
                </a:cubicBezTo>
                <a:cubicBezTo>
                  <a:pt x="875" y="416"/>
                  <a:pt x="885" y="428"/>
                  <a:pt x="848" y="440"/>
                </a:cubicBezTo>
                <a:cubicBezTo>
                  <a:pt x="807" y="430"/>
                  <a:pt x="798" y="437"/>
                  <a:pt x="760" y="456"/>
                </a:cubicBezTo>
                <a:cubicBezTo>
                  <a:pt x="730" y="446"/>
                  <a:pt x="723" y="426"/>
                  <a:pt x="696" y="408"/>
                </a:cubicBezTo>
                <a:cubicBezTo>
                  <a:pt x="661" y="420"/>
                  <a:pt x="652" y="415"/>
                  <a:pt x="632" y="384"/>
                </a:cubicBezTo>
                <a:cubicBezTo>
                  <a:pt x="575" y="403"/>
                  <a:pt x="598" y="409"/>
                  <a:pt x="560" y="384"/>
                </a:cubicBezTo>
                <a:cubicBezTo>
                  <a:pt x="552" y="387"/>
                  <a:pt x="543" y="387"/>
                  <a:pt x="536" y="392"/>
                </a:cubicBezTo>
                <a:cubicBezTo>
                  <a:pt x="527" y="398"/>
                  <a:pt x="523" y="413"/>
                  <a:pt x="512" y="416"/>
                </a:cubicBezTo>
                <a:cubicBezTo>
                  <a:pt x="501" y="419"/>
                  <a:pt x="491" y="411"/>
                  <a:pt x="480" y="408"/>
                </a:cubicBezTo>
                <a:cubicBezTo>
                  <a:pt x="424" y="427"/>
                  <a:pt x="437" y="440"/>
                  <a:pt x="424" y="400"/>
                </a:cubicBezTo>
                <a:cubicBezTo>
                  <a:pt x="411" y="403"/>
                  <a:pt x="397" y="405"/>
                  <a:pt x="384" y="408"/>
                </a:cubicBezTo>
                <a:cubicBezTo>
                  <a:pt x="376" y="410"/>
                  <a:pt x="368" y="419"/>
                  <a:pt x="360" y="416"/>
                </a:cubicBezTo>
                <a:cubicBezTo>
                  <a:pt x="351" y="412"/>
                  <a:pt x="352" y="398"/>
                  <a:pt x="344" y="392"/>
                </a:cubicBezTo>
                <a:cubicBezTo>
                  <a:pt x="337" y="387"/>
                  <a:pt x="328" y="387"/>
                  <a:pt x="320" y="384"/>
                </a:cubicBezTo>
                <a:cubicBezTo>
                  <a:pt x="323" y="365"/>
                  <a:pt x="321" y="346"/>
                  <a:pt x="328" y="328"/>
                </a:cubicBezTo>
                <a:cubicBezTo>
                  <a:pt x="332" y="317"/>
                  <a:pt x="346" y="313"/>
                  <a:pt x="352" y="304"/>
                </a:cubicBezTo>
                <a:cubicBezTo>
                  <a:pt x="357" y="297"/>
                  <a:pt x="357" y="288"/>
                  <a:pt x="360" y="280"/>
                </a:cubicBezTo>
                <a:cubicBezTo>
                  <a:pt x="335" y="204"/>
                  <a:pt x="338" y="227"/>
                  <a:pt x="248" y="216"/>
                </a:cubicBezTo>
                <a:cubicBezTo>
                  <a:pt x="275" y="207"/>
                  <a:pt x="301" y="201"/>
                  <a:pt x="328" y="192"/>
                </a:cubicBezTo>
                <a:cubicBezTo>
                  <a:pt x="320" y="127"/>
                  <a:pt x="318" y="101"/>
                  <a:pt x="256" y="80"/>
                </a:cubicBezTo>
                <a:cubicBezTo>
                  <a:pt x="298" y="38"/>
                  <a:pt x="280" y="72"/>
                  <a:pt x="248" y="40"/>
                </a:cubicBezTo>
                <a:cubicBezTo>
                  <a:pt x="242" y="34"/>
                  <a:pt x="243" y="24"/>
                  <a:pt x="240" y="16"/>
                </a:cubicBezTo>
                <a:cubicBezTo>
                  <a:pt x="224" y="21"/>
                  <a:pt x="208" y="27"/>
                  <a:pt x="192" y="32"/>
                </a:cubicBezTo>
                <a:cubicBezTo>
                  <a:pt x="184" y="35"/>
                  <a:pt x="168" y="40"/>
                  <a:pt x="168" y="40"/>
                </a:cubicBezTo>
                <a:cubicBezTo>
                  <a:pt x="86" y="24"/>
                  <a:pt x="142" y="32"/>
                  <a:pt x="0" y="32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250920" y="3500280"/>
            <a:ext cx="2332800" cy="2315520"/>
            <a:chOff x="250920" y="3500280"/>
            <a:chExt cx="2332800" cy="2315520"/>
          </a:xfrm>
        </p:grpSpPr>
        <p:pic>
          <p:nvPicPr>
            <p:cNvPr id="483" name="" descr=""/>
            <p:cNvPicPr/>
            <p:nvPr/>
          </p:nvPicPr>
          <p:blipFill>
            <a:blip r:embed="rId2"/>
            <a:stretch/>
          </p:blipFill>
          <p:spPr>
            <a:xfrm>
              <a:off x="250920" y="3500280"/>
              <a:ext cx="1801800" cy="179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504000" y="5235120"/>
              <a:ext cx="2079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33"/>
                  </a:solidFill>
                  <a:latin typeface="Verdana"/>
                </a:rPr>
                <a:t>Útočník využívající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33"/>
                  </a:solidFill>
                  <a:latin typeface="Verdana"/>
                </a:rPr>
                <a:t>postranní kaná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353520" y="1413000"/>
            <a:ext cx="1720440" cy="1544400"/>
            <a:chOff x="353520" y="1413000"/>
            <a:chExt cx="1720440" cy="1544400"/>
          </a:xfrm>
        </p:grpSpPr>
        <p:pic>
          <p:nvPicPr>
            <p:cNvPr id="486" name="" descr=""/>
            <p:cNvPicPr/>
            <p:nvPr/>
          </p:nvPicPr>
          <p:blipFill>
            <a:blip r:embed="rId3"/>
            <a:stretch/>
          </p:blipFill>
          <p:spPr>
            <a:xfrm>
              <a:off x="865080" y="1712880"/>
              <a:ext cx="53352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4"/>
            <a:stretch/>
          </p:blipFill>
          <p:spPr>
            <a:xfrm flipH="1">
              <a:off x="1331640" y="2060640"/>
              <a:ext cx="39204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>
              <a:off x="353520" y="2492280"/>
              <a:ext cx="77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0033"/>
                  </a:solidFill>
                  <a:latin typeface="Verdana"/>
                </a:rPr>
                <a:t>kli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401800">
              <a:off x="631440" y="1720440"/>
              <a:ext cx="1295280" cy="9288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2298600" y="1720800"/>
            <a:ext cx="21600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562720" y="1523880"/>
            <a:ext cx="21564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10280" y="2133720"/>
            <a:ext cx="216000" cy="21564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400800" y="1981080"/>
            <a:ext cx="21600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4" name=""/>
          <p:cNvCxnSpPr>
            <a:endCxn id="490" idx="2"/>
          </p:cNvCxnSpPr>
          <p:nvPr/>
        </p:nvCxnSpPr>
        <p:spPr>
          <a:xfrm flipV="1">
            <a:off x="1841400" y="1828080"/>
            <a:ext cx="457920" cy="297720"/>
          </a:xfrm>
          <a:prstGeom prst="curvedConnector5">
            <a:avLst>
              <a:gd name="adj1" fmla="val 49960"/>
              <a:gd name="adj2" fmla="val 50000"/>
              <a:gd name="adj3" fmla="val 49960"/>
            </a:avLst>
          </a:prstGeom>
          <a:ln cap="sq" w="2844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495" name=""/>
          <p:cNvCxnSpPr>
            <a:stCxn id="490" idx="6"/>
          </p:cNvCxnSpPr>
          <p:nvPr/>
        </p:nvCxnSpPr>
        <p:spPr>
          <a:xfrm>
            <a:off x="2514600" y="1828440"/>
            <a:ext cx="745200" cy="445320"/>
          </a:xfrm>
          <a:prstGeom prst="curvedConnector5">
            <a:avLst>
              <a:gd name="adj1" fmla="val 49879"/>
              <a:gd name="adj2" fmla="val 50000"/>
              <a:gd name="adj3" fmla="val 49879"/>
            </a:avLst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91" idx="6"/>
            <a:endCxn id="493" idx="1"/>
          </p:cNvCxnSpPr>
          <p:nvPr/>
        </p:nvCxnSpPr>
        <p:spPr>
          <a:xfrm>
            <a:off x="5778000" y="1631520"/>
            <a:ext cx="654840" cy="381960"/>
          </a:xfrm>
          <a:prstGeom prst="curved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93" idx="5"/>
            <a:endCxn id="492" idx="4"/>
          </p:cNvCxnSpPr>
          <p:nvPr/>
        </p:nvCxnSpPr>
        <p:spPr>
          <a:xfrm flipH="1" rot="16200000">
            <a:off x="6758640" y="1990440"/>
            <a:ext cx="184680" cy="533880"/>
          </a:xfrm>
          <a:prstGeom prst="curvedConnector5">
            <a:avLst>
              <a:gd name="adj1" fmla="val 224023"/>
              <a:gd name="adj2" fmla="val 50000"/>
              <a:gd name="adj3" fmla="val 224023"/>
            </a:avLst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498" name=""/>
          <p:cNvCxnSpPr/>
          <p:nvPr/>
        </p:nvCxnSpPr>
        <p:spPr>
          <a:xfrm flipH="1" rot="10800000">
            <a:off x="7117920" y="1818720"/>
            <a:ext cx="430920" cy="315000"/>
          </a:xfrm>
          <a:prstGeom prst="curvedConnector5">
            <a:avLst>
              <a:gd name="adj1" fmla="val -18060"/>
              <a:gd name="adj2" fmla="val 86270"/>
              <a:gd name="adj3" fmla="val -18060"/>
            </a:avLst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3276720" y="2057400"/>
            <a:ext cx="215640" cy="2160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0" name=""/>
          <p:cNvCxnSpPr>
            <a:stCxn id="499" idx="7"/>
          </p:cNvCxnSpPr>
          <p:nvPr/>
        </p:nvCxnSpPr>
        <p:spPr>
          <a:xfrm flipH="1" flipV="1" rot="5400000">
            <a:off x="3605400" y="1570320"/>
            <a:ext cx="373680" cy="664200"/>
          </a:xfrm>
          <a:prstGeom prst="curvedConnector2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70" idx="2"/>
            <a:endCxn id="491" idx="2"/>
          </p:cNvCxnSpPr>
          <p:nvPr/>
        </p:nvCxnSpPr>
        <p:spPr>
          <a:xfrm flipH="1" flipV="1" rot="5400000">
            <a:off x="5063040" y="1329480"/>
            <a:ext cx="197640" cy="801000"/>
          </a:xfrm>
          <a:prstGeom prst="curvedConnector5">
            <a:avLst>
              <a:gd name="adj1" fmla="val -5474"/>
              <a:gd name="adj2" fmla="val 34712"/>
              <a:gd name="adj3" fmla="val -5474"/>
            </a:avLst>
          </a:prstGeom>
          <a:ln cap="sq" w="28440">
            <a:solidFill>
              <a:srgbClr val="000000"/>
            </a:solidFill>
            <a:miter/>
          </a:ln>
        </p:spPr>
      </p:cxnSp>
    </p:spTree>
  </p:cSld>
  <p:transition>
    <p:strips dir="rd"/>
    <p:sndAc>
      <p:stSnd>
        <p:snd r:embed="rId5" name="voltage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ematická podstata útok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značme OK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nožinu celých čísel z intervalu &lt;0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1&gt;, která mají podle kódování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správný formá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padě </a:t>
            </a:r>
            <a:r>
              <a:rPr b="0" i="1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ME-PKCS1-v1_5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lze psát OK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 &lt;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&gt;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točník v krok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stupně zasílá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RSAEP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celé číslo volené podle určitého předpi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e luštěný šifrový text, hledáme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RSADP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jem chyby Alert-„verze“ útočníkovy říká, že pro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RSADP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platí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OK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tud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akto útočník odvodí možné intervaly pro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1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útočník pokračuje v krok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+1 hledáním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cs-CZ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dokud pro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zbývá jediný celočíselný kandidá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 bezpečnosti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symetrické kryptografie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1360" y="185868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ymetrická kryptografie nemůže být bezpodmínečně bezpečn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ý klíč nese dostatek informace pro určení klíče privátn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trně platí i pro kvantovou asymetrickou kryptografii (zatím nepříliš rozvinu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cházíme například podmínky omezující počet kopií veřejného klíč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lepší výsledek: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prokazatelná bezpeč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dokázána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ýpočetní ekvivalen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úlohy luštění s jinou úlohou, u které se obecně uznává vysoká složit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naha o prokazatelnou bezpečnost vzhledem k úloze faktoriz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aková bezpečnost nebyla dosud dokázá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láštní význam v kontextu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ndom Oracle Mod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R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394-0B01-453E-846B-BCD3FDB778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Obrana proti P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tranní kanály zatím patrně nepůjde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cela vylouč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jich existence má své kořeny hluboko ve fyzikální podstatě současných počítačových obvo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udoucí technologie snad přinesou významnou minimalizaci P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lnSpc>
                <a:spcPct val="90000"/>
              </a:lnSpc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000000"/>
                </a:solidFill>
                <a:latin typeface="Arial"/>
              </a:rPr>
              <a:t>technologie umožňující minimalizaci PK však patrně také umožní získávat užitečný signál za horších podmínek..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ituaci snad jednou vyřeší kvantová teorie informace spolu s autonomními kvantovými obvody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– heuristická poznámka o budouc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Metodika obrany proti PK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47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postup obran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8080" indent="-53352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identifikace hrozících P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08080" indent="-53352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minimalizace úrovně signá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08080" indent="-53352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rozšířený matematicko-fyzikální model kryptografického modu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08080" indent="-533520">
              <a:spcBef>
                <a:spcPts val="550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prava kryptosché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i očekávání je obrana proti PK z větší části kryptologickou záležit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08080" indent="-53352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ijímá se existence postranních kanálů, ale minimalizuje se jejich užitečnost (užitečnost dostupné informa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Základní protiopatř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avděpodobnostních schémat a maskovacích tech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správném použití znemožňuje diferenciální analýzy a výrazně omezuje možnosti chybové analý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výpočtu proti chybá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platnění pro Fault-Tolerant systémy (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trola integrity všech vstupních parametrů, které mohou způsobit chybový postranní ka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zřetný návrh chybových hlá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Jsou všude..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>
            <a:lum bright="14000"/>
          </a:blip>
          <a:stretch/>
        </p:blipFill>
        <p:spPr>
          <a:xfrm>
            <a:off x="826920" y="1628640"/>
            <a:ext cx="3202200" cy="32403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211640" y="321300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p:transition spd="med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ymetrická kryptografie</a:t>
            </a:r>
            <a:br>
              <a:rPr sz="42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elementární principy- (1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4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dnosměrná fun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azveme jednosměrnou funkcí, když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 každé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je výpočetně snadné spočítat hodnotu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 náhodně zvolený obraz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je výpočetně neschůdné najít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tak, ž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symetrická kryptografie</a:t>
            </a:r>
            <a:br>
              <a:rPr sz="42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elementární principy- (2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659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směrná funkce s padacími vrát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nazveme jednosměrnou funkcí s padacími vrátky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, když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je jednosměrná s takovou vlastností, že při znalosti určité dodatečné informace 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 je pro každý obraz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ýpočetně snadné najít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takové, že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tedy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cs-CZ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 kryptografii představuje dodatečnou informaci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častěji 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privátní klíč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nebo jeho přímý derivá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symetrická kryptografi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50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elementární principy- (3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15328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pokládej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nkc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je spojena s určitým konkrétním subjektem - uživatelem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e to jeh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veřejný klíč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formace o padacích vrátkách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je známa pouze subjektu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521000" indent="-3780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je to jeh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privátní klíč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symetrická kryptografi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6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elementární principy- (4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3141720"/>
            <a:ext cx="2016000" cy="107928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3213000"/>
            <a:ext cx="2016000" cy="107964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979640" y="3429000"/>
            <a:ext cx="311400" cy="398880"/>
            <a:chOff x="1979640" y="3429000"/>
            <a:chExt cx="311400" cy="398880"/>
          </a:xfrm>
        </p:grpSpPr>
        <p:sp>
          <p:nvSpPr>
            <p:cNvPr id="115" name=""/>
            <p:cNvSpPr/>
            <p:nvPr/>
          </p:nvSpPr>
          <p:spPr>
            <a:xfrm>
              <a:off x="1979640" y="3430440"/>
              <a:ext cx="145800" cy="142920"/>
            </a:xfrm>
            <a:prstGeom prst="ellipse">
              <a:avLst/>
            </a:prstGeom>
            <a:solidFill>
              <a:srgbClr val="cc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82160" y="342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0033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651640" y="3789360"/>
            <a:ext cx="296640" cy="398880"/>
            <a:chOff x="5651640" y="3789360"/>
            <a:chExt cx="296640" cy="398880"/>
          </a:xfrm>
        </p:grpSpPr>
        <p:sp>
          <p:nvSpPr>
            <p:cNvPr id="118" name=""/>
            <p:cNvSpPr/>
            <p:nvPr/>
          </p:nvSpPr>
          <p:spPr>
            <a:xfrm>
              <a:off x="5651640" y="3790800"/>
              <a:ext cx="145800" cy="142920"/>
            </a:xfrm>
            <a:prstGeom prst="ellipse">
              <a:avLst/>
            </a:prstGeom>
            <a:solidFill>
              <a:srgbClr val="cc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54880" y="3789360"/>
              <a:ext cx="29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330033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203640" y="2852640"/>
            <a:ext cx="503280" cy="511920"/>
            <a:chOff x="3203640" y="2852640"/>
            <a:chExt cx="503280" cy="511920"/>
          </a:xfrm>
        </p:grpSpPr>
        <p:sp>
          <p:nvSpPr>
            <p:cNvPr id="121" name=""/>
            <p:cNvSpPr/>
            <p:nvPr/>
          </p:nvSpPr>
          <p:spPr>
            <a:xfrm>
              <a:off x="3203640" y="2852640"/>
              <a:ext cx="503280" cy="5029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297960" y="2923920"/>
              <a:ext cx="316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16" idx="0"/>
            <a:endCxn id="121" idx="2"/>
          </p:cNvCxnSpPr>
          <p:nvPr/>
        </p:nvCxnSpPr>
        <p:spPr>
          <a:xfrm flipH="1" flipV="1" rot="5400000">
            <a:off x="2507760" y="2733120"/>
            <a:ext cx="324720" cy="106776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24" name=""/>
          <p:cNvCxnSpPr>
            <a:stCxn id="121" idx="6"/>
            <a:endCxn id="118" idx="1"/>
          </p:cNvCxnSpPr>
          <p:nvPr/>
        </p:nvCxnSpPr>
        <p:spPr>
          <a:xfrm>
            <a:off x="3706560" y="3104640"/>
            <a:ext cx="1965960" cy="70740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grpSp>
        <p:nvGrpSpPr>
          <p:cNvPr id="125" name=""/>
          <p:cNvGrpSpPr/>
          <p:nvPr/>
        </p:nvGrpSpPr>
        <p:grpSpPr>
          <a:xfrm>
            <a:off x="4208400" y="4149720"/>
            <a:ext cx="541440" cy="511920"/>
            <a:chOff x="4208400" y="4149720"/>
            <a:chExt cx="541440" cy="511920"/>
          </a:xfrm>
        </p:grpSpPr>
        <p:sp>
          <p:nvSpPr>
            <p:cNvPr id="126" name=""/>
            <p:cNvSpPr/>
            <p:nvPr/>
          </p:nvSpPr>
          <p:spPr>
            <a:xfrm>
              <a:off x="4208400" y="4149720"/>
              <a:ext cx="503280" cy="50292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09920" y="4221000"/>
              <a:ext cx="439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i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028680" y="5157720"/>
            <a:ext cx="2929680" cy="459720"/>
          </a:xfrm>
          <a:prstGeom prst="rect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tajná informace:</a:t>
            </a:r>
            <a:r>
              <a:rPr b="1" lang="en-US" sz="2400" spc="-1" strike="noStrike">
                <a:solidFill>
                  <a:srgbClr val="330033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9" idx="1"/>
            <a:endCxn id="126" idx="7"/>
          </p:cNvCxnSpPr>
          <p:nvPr/>
        </p:nvCxnSpPr>
        <p:spPr>
          <a:xfrm flipV="1" rot="10800000">
            <a:off x="4637880" y="3986640"/>
            <a:ext cx="1015200" cy="235800"/>
          </a:xfrm>
          <a:prstGeom prst="curvedConnector2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cxnSp>
        <p:nvCxnSpPr>
          <p:cNvPr id="130" name=""/>
          <p:cNvCxnSpPr>
            <a:stCxn id="126" idx="2"/>
            <a:endCxn id="116" idx="3"/>
          </p:cNvCxnSpPr>
          <p:nvPr/>
        </p:nvCxnSpPr>
        <p:spPr>
          <a:xfrm rot="10800000">
            <a:off x="2291760" y="3626640"/>
            <a:ext cx="1916640" cy="775440"/>
          </a:xfrm>
          <a:prstGeom prst="curvedConnector5">
            <a:avLst>
              <a:gd name="adj1" fmla="val 49953"/>
              <a:gd name="adj2" fmla="val 49976"/>
              <a:gd name="adj3" fmla="val 49953"/>
            </a:avLst>
          </a:prstGeom>
          <a:ln cap="sq" w="1260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31" name=""/>
          <p:cNvSpPr/>
          <p:nvPr/>
        </p:nvSpPr>
        <p:spPr>
          <a:xfrm flipV="1">
            <a:off x="4484520" y="4653000"/>
            <a:ext cx="0" cy="504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3440" y="4076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50160" y="4005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24000" y="353844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1628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357336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547640" y="3789360"/>
            <a:ext cx="7020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371628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124000" y="393372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335772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378936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3860640"/>
            <a:ext cx="7020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483640" y="3933720"/>
            <a:ext cx="7308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342900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40360" y="3500280"/>
            <a:ext cx="69840" cy="69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08760" y="3787920"/>
            <a:ext cx="75960" cy="727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227640" y="357336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00720" y="386064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2000" y="4149720"/>
            <a:ext cx="7596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16720" y="342900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407664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3573360"/>
            <a:ext cx="7596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77080" y="386064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64000" y="3716280"/>
            <a:ext cx="76320" cy="730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2060640"/>
            <a:ext cx="352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Verdana"/>
              </a:rPr>
              <a:t>jednosměrná funkce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1"/>
          </p:cNvCxnSpPr>
          <p:nvPr/>
        </p:nvCxnSpPr>
        <p:spPr>
          <a:xfrm flipV="1" rot="10800000">
            <a:off x="4355280" y="2562840"/>
            <a:ext cx="361080" cy="58644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lg" type="arrow" w="med"/>
          </a:ln>
        </p:spPr>
      </p:cxnSp>
      <p:sp>
        <p:nvSpPr>
          <p:cNvPr id="158" name=""/>
          <p:cNvSpPr/>
          <p:nvPr/>
        </p:nvSpPr>
        <p:spPr>
          <a:xfrm>
            <a:off x="250920" y="5661000"/>
            <a:ext cx="352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Verdana"/>
              </a:rPr>
              <a:t>... s padacími vrá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3"/>
            <a:endCxn id="128" idx="2"/>
          </p:cNvCxnSpPr>
          <p:nvPr/>
        </p:nvCxnSpPr>
        <p:spPr>
          <a:xfrm flipV="1">
            <a:off x="3777840" y="5657400"/>
            <a:ext cx="716760" cy="506880"/>
          </a:xfrm>
          <a:prstGeom prst="bentConnector2">
            <a:avLst/>
          </a:prstGeom>
          <a:ln cap="sq" w="12600">
            <a:solidFill>
              <a:srgbClr val="000000"/>
            </a:solidFill>
            <a:miter/>
            <a:tailEnd len="lg" type="arrow" w="med"/>
          </a:ln>
        </p:spPr>
      </p:cxnSp>
      <p:cxnSp>
        <p:nvCxnSpPr>
          <p:cNvPr id="160" name=""/>
          <p:cNvCxnSpPr>
            <a:stCxn id="158" idx="0"/>
          </p:cNvCxnSpPr>
          <p:nvPr/>
        </p:nvCxnSpPr>
        <p:spPr>
          <a:xfrm flipH="1" flipV="1" rot="5400000">
            <a:off x="1961280" y="4274280"/>
            <a:ext cx="1440360" cy="1334160"/>
          </a:xfrm>
          <a:prstGeom prst="bentConnector3">
            <a:avLst>
              <a:gd name="adj1" fmla="val 49950"/>
            </a:avLst>
          </a:prstGeom>
          <a:ln cap="sq" w="12600">
            <a:solidFill>
              <a:srgbClr val="000000"/>
            </a:solidFill>
            <a:miter/>
            <a:tailEnd len="lg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symetrická kryptografie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200"/>
            </a:br>
            <a:r>
              <a:rPr b="0" lang="en-US" sz="2900" spc="-1" strike="noStrike">
                <a:solidFill>
                  <a:srgbClr val="330033"/>
                </a:solidFill>
                <a:latin typeface="Times New Roman"/>
              </a:rPr>
              <a:t>-elementární principy- (5)</a:t>
            </a:r>
            <a:endParaRPr b="0" lang="en-US" sz="2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43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vlastností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l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z pouhé znalosti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elze najít výpočetně schůdnou (parciálně) inverzní funkci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čili speciálně: ze znalosti veřejného klíče nelze nalézt klíč privátn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37800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dy nakonec prakticky: ten, kdo zná pouze veřejný klíč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káže zašifrov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ibovolnou zprávu, al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dokáž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áhodně vybraný šifrový text sám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dšifrov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1T12:46:32Z</dcterms:created>
  <dc:creator>Tomáš Rosa</dc:creator>
  <dc:description/>
  <dc:language>en-US</dc:language>
  <cp:lastModifiedBy>Tomáš Rosa</cp:lastModifiedBy>
  <dcterms:modified xsi:type="dcterms:W3CDTF">2003-06-05T11:32:08Z</dcterms:modified>
  <cp:revision>42</cp:revision>
  <dc:subject/>
  <dc:title>Snímek 1</dc:title>
</cp:coreProperties>
</file>