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9B01-6E64-440F-96C3-624A2BA0DA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559A-40D9-41BE-BC87-78AFA88A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0115-8666-4519-A3EB-D67065B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6D91-C95B-4202-B75C-4697FA05E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8A69-4E25-4FCB-BACB-E19B0F3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17EE-836E-4599-B1B9-68ED0D8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1D68-B42C-43D9-BCB4-F43D840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499A-DBA6-440D-93A5-7AF74676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117F-2202-4BA8-A8EC-9BA0055A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2F2F-15DF-401C-AD74-864F06E1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D172-8753-422D-896C-9BD98252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BD27-EF3D-49B9-B35A-35B766CE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TE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2" marL="1143000" indent="-22860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3" marL="1600200" indent="-22860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4" marL="2057400" indent="-22860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TE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FuturaTE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FuturaTEE"/>
              </a:rPr>
              <a:t>Teleinformatik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0" y="65527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uturaTE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A68-4DC8-4076-8D5F-1E84B5FA3AA3}" type="slidenum">
              <a:rPr b="0" lang="en-US" sz="1200" spc="-1" strike="noStrike">
                <a:solidFill>
                  <a:srgbClr val="000000"/>
                </a:solidFill>
                <a:latin typeface="FuturaTE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924680" y="5884920"/>
          <a:ext cx="990720" cy="89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5884920"/>
                    <a:ext cx="9907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7240" y="2285640"/>
            <a:ext cx="501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aTE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2160" y="6172200"/>
            <a:ext cx="366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000000"/>
                </a:solidFill>
                <a:latin typeface="FuturaTE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Teleinformatika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43800" y="5486400"/>
          <a:ext cx="121932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5486400"/>
                    <a:ext cx="12193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TE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457200"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TE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914400" algn="ctr"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TE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3" marL="1371600" algn="ctr"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E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  <a:p>
            <a:pPr lvl="4" marL="1828800" algn="ctr"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E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E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TE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crypto.hyperlink.cz/PicNic.htm" TargetMode="External"/><Relationship Id="rId4" Type="http://schemas.openxmlformats.org/officeDocument/2006/relationships/hyperlink" Target="http://crypto.hyperlink.cz/PicNic.htm" TargetMode="External"/><Relationship Id="rId5" Type="http://schemas.openxmlformats.org/officeDocument/2006/relationships/hyperlink" Target="http://crypto.hyperlink.cz/PicNic.htm" TargetMode="External"/><Relationship Id="rId6" Type="http://schemas.openxmlformats.org/officeDocument/2006/relationships/hyperlink" Target="http://crypto.hyperlink.cz/PicNic.htm" TargetMode="External"/><Relationship Id="rId7" Type="http://schemas.openxmlformats.org/officeDocument/2006/relationships/hyperlink" Target="http://crypto.hyperlink.cz/PicNic.htm" TargetMode="External"/><Relationship Id="rId8" Type="http://schemas.openxmlformats.org/officeDocument/2006/relationships/hyperlink" Target="http://crypto.hyperlink.cz/PicNic.htm" TargetMode="External"/><Relationship Id="rId9" Type="http://schemas.openxmlformats.org/officeDocument/2006/relationships/hyperlink" Target="http://crypto.hyperlink.cz/PicNic.htm" TargetMode="External"/><Relationship Id="rId10" Type="http://schemas.openxmlformats.org/officeDocument/2006/relationships/hyperlink" Target="http://crypto.hyperlink.cz/PicNic.htm" TargetMode="External"/><Relationship Id="rId11" Type="http://schemas.openxmlformats.org/officeDocument/2006/relationships/hyperlink" Target="http://crypto.hyperlink.cz/PicNic.htm" TargetMode="External"/><Relationship Id="rId12" Type="http://schemas.openxmlformats.org/officeDocument/2006/relationships/hyperlink" Target="http://crypto.hyperlink.cz/PicNic.htm" TargetMode="External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ri.bucek@fit.cvut.cz" TargetMode="External"/><Relationship Id="rId3" Type="http://schemas.openxmlformats.org/officeDocument/2006/relationships/hyperlink" Target="mailto:jiri.bucek@fit.cvut.cz" TargetMode="External"/><Relationship Id="rId4" Type="http://schemas.openxmlformats.org/officeDocument/2006/relationships/hyperlink" Target="mailto:jiri.bucek@fit.cvut.cz" TargetMode="External"/><Relationship Id="rId5" Type="http://schemas.openxmlformats.org/officeDocument/2006/relationships/hyperlink" Target="mailto:jiri.bucek@fit.cvut.cz" TargetMode="External"/><Relationship Id="rId6" Type="http://schemas.openxmlformats.org/officeDocument/2006/relationships/hyperlink" Target="mailto:jiri.bucek@fit.cvut.cz" TargetMode="External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icentrum.cz/cz_01_07_05.php" TargetMode="External"/><Relationship Id="rId3" Type="http://schemas.openxmlformats.org/officeDocument/2006/relationships/hyperlink" Target="http://www.asicentrum.cz/cz_01_07_05.php" TargetMode="External"/><Relationship Id="rId4" Type="http://schemas.openxmlformats.org/officeDocument/2006/relationships/hyperlink" Target="http://www.asicentrum.cz/cz_01_07_05.php" TargetMode="External"/><Relationship Id="rId5" Type="http://schemas.openxmlformats.org/officeDocument/2006/relationships/hyperlink" Target="http://www.asicentrum.cz/cz_01_07_05.php" TargetMode="External"/><Relationship Id="rId6" Type="http://schemas.openxmlformats.org/officeDocument/2006/relationships/hyperlink" Target="http://www.asicentrum.cz/cz_01_07_05.php" TargetMode="External"/><Relationship Id="rId7" Type="http://schemas.openxmlformats.org/officeDocument/2006/relationships/hyperlink" Target="http://www.asicentrum.cz/cz_01_07_05.php" TargetMode="External"/><Relationship Id="rId8" Type="http://schemas.openxmlformats.org/officeDocument/2006/relationships/hyperlink" Target="http://www.asicentrum.cz/cz_01_07_05.php" TargetMode="External"/><Relationship Id="rId9" Type="http://schemas.openxmlformats.org/officeDocument/2006/relationships/hyperlink" Target="http://www.asicentrum.cz/cz_01_07_05.php" TargetMode="External"/><Relationship Id="rId10" Type="http://schemas.openxmlformats.org/officeDocument/2006/relationships/hyperlink" Target="http://crypto.hyperlink.cz/cryptoprax.htm" TargetMode="External"/><Relationship Id="rId11" Type="http://schemas.openxmlformats.org/officeDocument/2006/relationships/hyperlink" Target="http://crypto.hyperlink.cz/cryptoprax.htm" TargetMode="External"/><Relationship Id="rId12" Type="http://schemas.openxmlformats.org/officeDocument/2006/relationships/hyperlink" Target="http://crypto.hyperlink.cz/cryptoprax.htm" TargetMode="External"/><Relationship Id="rId13" Type="http://schemas.openxmlformats.org/officeDocument/2006/relationships/hyperlink" Target="http://crypto.hyperlink.cz/cryptoprax.htm" TargetMode="External"/><Relationship Id="rId14" Type="http://schemas.openxmlformats.org/officeDocument/2006/relationships/hyperlink" Target="http://crypto.hyperlink.cz/cryptoprax.htm" TargetMode="External"/><Relationship Id="rId15" Type="http://schemas.openxmlformats.org/officeDocument/2006/relationships/hyperlink" Target="http://crypto.hyperlink.cz/cryptoprax.htm" TargetMode="External"/><Relationship Id="rId16" Type="http://schemas.openxmlformats.org/officeDocument/2006/relationships/hyperlink" Target="http://crypto.hyperlink.cz/cryptoprax.htm" TargetMode="External"/><Relationship Id="rId17" Type="http://schemas.openxmlformats.org/officeDocument/2006/relationships/hyperlink" Target="http://crypto.hyperlink.cz/cryptoprax.htm" TargetMode="External"/><Relationship Id="rId18" Type="http://schemas.openxmlformats.org/officeDocument/2006/relationships/hyperlink" Target="http://crypto.hyperlink.cz/cryptoprax.htm" TargetMode="External"/><Relationship Id="rId19" Type="http://schemas.openxmlformats.org/officeDocument/2006/relationships/hyperlink" Target="http://crypto.hyperlink.cz/cryptoprax.htm" TargetMode="External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FuturaTEE"/>
              </a:rPr>
              <a:t>MIFARE Classic – praktické útoky,</a:t>
            </a:r>
            <a:br>
              <a:rPr sz="4400"/>
            </a:br>
            <a:r>
              <a:rPr b="1" lang="cs-CZ" sz="3600" spc="-1" strike="noStrike">
                <a:solidFill>
                  <a:srgbClr val="000000"/>
                </a:solidFill>
                <a:latin typeface="FuturaTEE"/>
              </a:rPr>
              <a:t>cesty k nápravě</a:t>
            </a:r>
            <a:endParaRPr b="1" lang="en-US" sz="36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252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Dr. Tomáš Rosa, </a:t>
            </a:r>
            <a:r>
              <a:rPr b="0" lang="cs-CZ" sz="2000" spc="-1" strike="noStrike">
                <a:solidFill>
                  <a:srgbClr val="3333cc"/>
                </a:solidFill>
                <a:latin typeface="FuturaTEE"/>
              </a:rPr>
              <a:t>tomas.rosa@rb.cz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Raiffeisenbank, a.s.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9C4D61-8230-499A-A630-AE58D969D11F}" type="datetime1">
              <a:rPr lang="en-US"/>
              <a:t>07/29/26</a:t>
            </a:fld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Praxe – jistá městská karta II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99072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MIFARE Classic cryptanalytic post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6a26fd43:56c04b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a4:9f9660ca:bd:0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84:9f9660ca:ae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e4:9f9660ca:a3: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c4:9f9660ca:b6: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24:9f9660ca:a6: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04:9f9660ca:b8: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64:9f9660ca:b8: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44:9f9660ca:a0: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KEY candidate #1: 8e431ebd24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2073-36B7-49AB-8898-337C90E42C7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5A5F9-D8FD-445E-A85D-F2AEE404BF4D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Praxe – jistá městská karta III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0,128&gt;  A#8e431ebd2461: 81691B23 00000002 00020000 000000E2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,129&gt;  A#8e431ebd2461: E9A51592 00000000 00000000 00000072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2,130&gt;  A#8e431ebd2461: 01000000 C800C800 00010000 000000C1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3,131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4,132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5,133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6,134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7,135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8,136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9,137&gt;  A#8e431ebd2461: 00000000 00000000 00580000 00000045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0,138&gt; A#8e431ebd2461: 92031100 01000001 C800C40E C50000BC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1,139&gt; A#8e431ebd2461: 00000000 00000000 00000000 0000000B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2,140&gt; A#8e431ebd2461: 00000000 00000000 00000000 0000000B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3,141&gt; A#8e431ebd2461: 00000000 00000000 00000000 0000000B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4,142&gt; A#8e431ebd2461: 00000000 00000000 00000000 0000000B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8000"/>
                </a:solidFill>
                <a:latin typeface="Courier New"/>
              </a:rPr>
              <a:t>6a26fd43 &lt;32,15,143&gt; A#8e431ebd2461: 00000000 00000877 8F000000 00000000</a:t>
            </a:r>
            <a:endParaRPr b="0" lang="en-US" sz="1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2757-E9AC-41B5-8821-1C95DA1159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99E07-FC68-4A54-8BB4-DBEDF1401204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Kryptoanalýza MF Classic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Celková rekapitulace (původní i nové útoky)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Možnost získání tajného klíče interakcí útočníka s terminálem (čtečkou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Možnost získání tajného klíče z odposlechnuté relace mezi čtečkou a čipem MF (stačí jen strana čtečky – lze na desítky metrů daleko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Možnost získání tajného klíče pouhou interakcí s čipem MF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1040040" indent="-20772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Zcela devastující útok pro řadu aplikací typu elektronických peněženek a legitimací (MHD, atp.)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B2E1-E50F-4F1D-A9E9-58CB465594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F8351-9694-464E-AD9B-7D02F9A320E2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Classic a NFC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Ačkoliv zde není žádná nutná vazba, nabízí řada aplikací NFC jen profil MIFARE Classic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Tím přebírá zranitelnosti původních čipů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Je otázkou, zda jsou v profilech NFC odstraněny alespoň ty slabiny, které takto principiálně odstranit lze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Zejména slabý PRNG a postranní kanál v autentizační proceduře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7B1C-2350-4E60-9FE6-683822F4AC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AF45B-DEAF-4258-A218-0CA361136BE9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„jen UID“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V řadě aspektů je výsledek horší než u transpondérů unikátního ID v pásmu LF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Standardizovaný protokol (ISO14443A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Odposlech UID možný na desítky metrů daleko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Jistou překážkou je absence programovatelného transpondéru á-la Q5 v pásmu HF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Nutno použít emulátor – například PicNic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BE3F-D51F-4D9D-9497-C9BBD2A011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C574F-AD17-45F7-B028-9A89399487AE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PicNic - Emulátor pro pásmo HF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5639040" cy="528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01240" y="5943600"/>
            <a:ext cx="6475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Podrobnosti viz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3"/>
              </a:rPr>
              <a:t>http:/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4"/>
              </a:rPr>
              <a:t>crypto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6"/>
              </a:rPr>
              <a:t>hyperlink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7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8"/>
              </a:rPr>
              <a:t>cz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10"/>
              </a:rPr>
              <a:t>PicNic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12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3280-33C7-4529-95AA-175E5A79954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1A247-D833-4727-A223-26845B1B100D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K odposlechu hodnoty UID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762600" cy="5072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3880" y="4495680"/>
            <a:ext cx="99072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447920" y="1066680"/>
            <a:ext cx="6762600" cy="5072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3880" y="4495680"/>
            <a:ext cx="990720" cy="990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676520"/>
            <a:ext cx="182880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14600" y="3048120"/>
            <a:ext cx="3886200" cy="1752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67200" y="51055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FuturaTEE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FuturaTEE"/>
              </a:rPr>
              <a:t>rim</a:t>
            </a:r>
            <a:r>
              <a:rPr b="0" lang="cs-CZ" sz="2000" spc="-1" strike="noStrike">
                <a:solidFill>
                  <a:srgbClr val="3333cc"/>
                </a:solidFill>
                <a:latin typeface="FuturaTEE"/>
              </a:rPr>
              <a:t>ární př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36160" y="2286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FuturaTEE"/>
              </a:rPr>
              <a:t>opak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9AE2-8D94-4953-926C-192F30F4540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474BF-E1EA-49FE-BDDD-ECB01F0E8265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Dálkový záchyt UID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38200" y="1150920"/>
            <a:ext cx="5877000" cy="440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78120" y="5638680"/>
            <a:ext cx="61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Přijímač AOR AR8600MK2, výstup KV mf 10,7 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Vzdálenost cca 2 m, nejméně 2 čtečky v po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84AA-6022-4A8A-ADF4-8E28E2EBAFF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9FAFA-97DF-4328-9356-F7AD71CC724C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UID lze často získat i jinak…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4743360" cy="468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9920" y="3352680"/>
            <a:ext cx="207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Kromě placení obědů je ta samá karta využita i v přístupovém systému. Samozřejmě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1C48-A2DE-49AE-93CA-6C2294ED058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BDB5E-4865-4F32-8707-EFF66A97B2CF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– jen kryptografie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Složitost reálného útoku je jen nepatrně vyšší než v případě modelu „jen UID“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Po vyluštění příslušných klíčů lze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manipulovat s daty na originálním čipu (dobíjení, duplikování kuponů, atp.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nebo vytvořit klon do tzv. bílé karty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7357-3899-4736-A955-A0D3FF2B47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37702-CD79-42B6-99B6-D0DBA110DE87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Nový útok roku 2009, nová rizika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Chybový postranní kanál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raktické zkušenosti s implementací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Sumarizace útoků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Diskuse složitosti útoků v reálných podmínkách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Cesta k nápravě – přechod na jinou platformu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Z čeho vybírat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Migrace s využitím duálních karet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D444-5F80-4C97-B185-3A51BCF142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5016-5050-48F3-B57A-F4B810A802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– UID i kryptografie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Možnost manipulovat s daty na čipu zůstává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marL="308520" indent="-30852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Vytvoření funkčního klonu je z praktického hlediska komplikovanější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68520" indent="-2570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Bílou kartu nelze použít – má pevné UID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68520" indent="-2570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Emulátory typu PicNic nutno rozšířit o podporu Crypto1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1028520" indent="-20556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Vyžaduje externí koprocesor na bázi CPLD či FPGA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3" marL="1440000" indent="-20556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VHDL implementace koprocesoru Crypto1 se vejde např. do Xilinx XCR3064XL (CPLD rodiny CoolRunner s 64 makrobuňkami).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  <a:p>
            <a:pPr lvl="3" marL="1440000" indent="-20556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Autor: Ing. Jiří Buček,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2"/>
              </a:rPr>
              <a:t>jiri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3"/>
              </a:rPr>
              <a:t>.bucek@fit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4"/>
              </a:rPr>
              <a:t>cvut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FuturaTEE"/>
                <a:hlinkClick r:id="rId6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FuturaTE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F97F-29AA-4206-8799-626EB2A916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87D8-EE82-493D-91EE-B96C15E8CFF4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Classic – co dál?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MIFARE DESFire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Řadu slabin odstraňuje, ale řadu nových potenciálních zranitelností zavádí!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Evidentně nezvládnuté propojení kryptografie s aplikačním protokolem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Hrozí útoky těžící z nevhodných konfigurací – karta k nim sama dost navádí…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12120" indent="-31212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MIFARE Plus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76080" indent="-25992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rvní vzorky jsou snad již (s nejméně ročním zpožděním) k dispozici, dokumentace je neveřejná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4B52-7AC4-455F-B548-B2E9BAF676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E309E-761A-435A-A435-894A07FFE7BE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Duální karta…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… </a:t>
            </a: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s vhodnou emulací MF Classic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E.g. Oberthur/ID-One Cosmo v5.4 etc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Díky vhodnému nastavení příznaků ATQA a SAK lze dosáhnout toho, že: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čtečka očekávající MF Classic „vidí“ MF Classic,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čtečka očekávající smartkartu „vidí“ smartkartu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Šance na postupnou migraci čteček a e.g. přístupových karet na vlastní javovou aplikaci na smartkartě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Po přechodnou dobu budou oba systémy koexistovat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4667-F2E5-4381-B354-2224ECA7EF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5A398-AD73-4802-A58C-C80AC457C464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Závěr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Útoky na MIFARE Classic jsou nanejvýš schůdné a pokrývají snad všechny scénáře použití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05280" indent="-3052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Řada bezpečnostních manažerů si to ovšem stále nehodlá připustit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60960" indent="-25416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Lze očekávat útoky na vstupní systémy (spíše v mediální rovině) a karty pro MHD atp. (ve zcela pragmatické rovině)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660960" indent="-25416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Teoreticky lze připustit, že některý systém nebude změnu vyžadovat, ale to je nutné ověřit penetračním testem.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660960" indent="-25416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Při migraci mohou pomoci „zákaznické“ duální karty – nutno ovšem spolupracovat s kompetentním dodavatelem…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0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7BC8-64B9-45AE-A5D0-DF04A388D4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83589-BF36-4AD1-9910-E2EF15CB8BAC}" type="datetime1">
              <a:rPr lang="en-US"/>
              <a:t>07/29/26</a:t>
            </a:fld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Děkuji za pozornost…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813040" cy="465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14800" y="464832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r. Tomáš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aiffeisenbank, a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omas.rosa@rb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9B11-F74C-4567-AC7C-BCE5F0D9B25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D7D3C-2CBC-4225-9E3F-B182831D647E}" type="datetime1">
              <a:rPr lang="en-US"/>
              <a:t>07/29/26</a:t>
            </a:fld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MIFARE Classic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Paměťový čip s kryptograficky řízeným přístupem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Dva základní druhy použití: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Režim „jen UID“, který je de facto ekvivalentní transpondérům unikátního ID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Režim „kryptografický“, který využívá obousměrnou autentizaci čipu a terminálu.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Vhodná je kombinace obou, ale jen velmi málo systémů ji využívá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8DEE-EEFC-4914-AC05-A77796B70A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6D90B-C4C6-4C0E-9444-BA14EB4273C6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Chybový postranní kanál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942840"/>
            <a:ext cx="5867280" cy="59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6FA0A-095F-445E-84C4-DC9AABBE0B9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350E-4502-4C8E-9EA0-DE3F3B5C0D16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Využití postranního kanálu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Jeden úspěšný dotaz na čip poskytuje až 12 bitů informace o tajném klíči (48 b).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8 platných paritních rovnic plus 4 rovnice ze známého otevřeného textu odpovědi (NACK: 0x5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4 dotazy by měly stačit k útoku hrubou silou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ředpokládá intenzivní použití hradlových polí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1005840" indent="-20088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uturaTEE"/>
              </a:rPr>
              <a:t>stroj COPACOBANA na bázi Spartan3 či jiná konstrukce s Virtex5 LX50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Výsledek do cca hodiny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Samotný sběr dat ovšem trvá jen několik vteřin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94B0-696D-44C6-804B-DADA24318A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EE84B-5E67-4B0D-B021-03D2E7FF1AE0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Jak se obejít bez FPGA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Rekapitulace známých slabin MF Classic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Krátká délka klíče algoritmu Crypto1 (48 bitů)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Kvazistabilita PRNG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Nevhodné napojení nelineárního filtru na LFSR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odmíněné multidiferenciály nelineárního filtru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Chybový postranní kanál v autentizačním protokolu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Nevhodné pořadí aplikace šifrování a bezp. kódů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653760" indent="-25128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4A66-11AB-479D-A2BC-A903ECDD72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F258D-29DA-4DB6-8F25-D9749FC17E40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Optimalizovaný útok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FuturaTEE"/>
              </a:rPr>
              <a:t>Lze provést na běžném PC za pomoci upravené čtečky</a:t>
            </a:r>
            <a:endParaRPr b="0" lang="en-US" sz="32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Úprava spočívá ve specifickém časování za účelem stabilizace PRNG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ři praktickém ověřování byla využita vývojová čtečka EMDB408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1143000" indent="-22860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2"/>
              </a:rPr>
              <a:t>http://www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3"/>
              </a:rPr>
              <a:t>asicentrum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7"/>
              </a:rPr>
              <a:t>cz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8"/>
              </a:rPr>
              <a:t>_01_07_05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9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lvl="1" marL="743040" indent="-285840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uturaTEE"/>
              </a:rPr>
              <a:t>Podrobnosti viz Sdělovací technika 8/2009</a:t>
            </a:r>
            <a:endParaRPr b="0" lang="en-US" sz="2800" spc="-1" strike="noStrike">
              <a:solidFill>
                <a:srgbClr val="000000"/>
              </a:solidFill>
              <a:latin typeface="FuturaTEE"/>
            </a:endParaRPr>
          </a:p>
          <a:p>
            <a:pPr lvl="2" marL="1143000" indent="-228600"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0"/>
              </a:rPr>
              <a:t>http://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1"/>
              </a:rPr>
              <a:t>crypto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2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3"/>
              </a:rPr>
              <a:t>hyper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4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5"/>
              </a:rPr>
              <a:t>cz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6"/>
              </a:rPr>
              <a:t>/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7"/>
              </a:rPr>
              <a:t>cryptoprax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8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FuturaTEE"/>
                <a:hlinkClick r:id="rId19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D9D7-D9E8-4161-9AD2-B071B4BCBD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075E4-0FEA-4BC0-BF50-7DA37F4D9812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Praktický útok - úspěšný dotaz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8B58-B138-4AFC-910D-42F7D834C6B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EAF1E-93DA-495E-B1A4-B4F901A9B793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FuturaTEE"/>
              </a:rPr>
              <a:t>Praxe – jistá městská karta I</a:t>
            </a:r>
            <a:endParaRPr b="1" lang="en-US" sz="32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key type: A, physical block no: 128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6a26fd43:56c04b16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a4:9f9660ca:bd:0c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84:9f9660ca:ae:00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e4:9f9660ca:a3:04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c4:9f9660ca:b6:02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24:9f9660ca:a6:06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04:9f9660ca:b8:05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64:9f9660ca:b8:06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$d469f244:9f9660ca:a0:02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next record follows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Courier New"/>
              </a:rPr>
              <a:t>; …</a:t>
            </a:r>
            <a:endParaRPr b="0" lang="en-US" sz="2400" spc="-1" strike="noStrike">
              <a:solidFill>
                <a:srgbClr val="000000"/>
              </a:solidFill>
              <a:latin typeface="FuturaTE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22B1-2DEF-4079-8B4C-1B19267CB9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BAEC2-C7E7-4459-9C70-3B7E8749689A}" type="datetime1">
              <a:rPr lang="en-US"/>
              <a:t>07/29/26</a:t>
            </a:fld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5:21:25Z</dcterms:created>
  <dc:creator>Tomáš Rosa, Ph.D.</dc:creator>
  <dc:description/>
  <dc:language>en-US</dc:language>
  <cp:lastModifiedBy>Tomas Rosa</cp:lastModifiedBy>
  <dcterms:modified xsi:type="dcterms:W3CDTF">2009-11-05T13:52:43Z</dcterms:modified>
  <cp:revision>42</cp:revision>
  <dc:subject>Teleinformatika 2009</dc:subject>
  <dc:title>MIFARE Classic- praktické útoky, cesty k nápravě</dc:title>
</cp:coreProperties>
</file>